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hammer.wav" ContentType="audio/x-wav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FD0-E89E-4935-87EC-BDAF1A18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996-6244-4341-A9EB-0EC66900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F11-F762-4091-8D7F-F4C80516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6E0-B483-4C0D-B5F2-6114F515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3CE9-9049-47D8-90D8-9E018166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508A-0E77-49AE-9D09-03B73130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273F-D019-4B03-936B-4AFD2BCE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BBE2-FE30-4362-9A9E-4CCB3C51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EE0B-7ED3-426A-BB3F-46A914D8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4887-4700-45FA-BF86-3886F4DB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D17A-C96E-4B34-BE54-B8186D26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0FE-5E52-4D63-8456-39822CD6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954F-43DD-40C8-A2FA-0BFCF8B6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5A87-ACD9-42AD-8600-C57C6ABF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8BA8-7E92-4D86-A878-387A872A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7250-3B2F-4456-954E-9E4A9F2D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E580-B0D3-4257-B8FA-E0DFBA31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252-B01F-4621-8094-71817C55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D79-9EB8-4DBA-9D05-3A09EE64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8F7-040F-4586-9C31-8AEA629E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7C8E-905A-4A34-90BA-E6EA5886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15E-4964-42B0-82EC-41449316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94A-03FD-4DFC-A014-EB674C21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78A-4216-480E-980B-BF9B6763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5F67-72AE-4C79-AF7B-C261BDD2404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8EB4-5608-46C9-9BE4-742FCCFAC90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Warm-up: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have a 4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gle, what is the measure of it’s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tical ang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ary angle (comple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lementary angle (supple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7040" y="2463840"/>
            <a:ext cx="633240" cy="484200"/>
          </a:xfrm>
          <a:custGeom>
            <a:avLst/>
            <a:gdLst/>
            <a:ahLst/>
            <a:rect l="l" t="t" r="r" b="b"/>
            <a:pathLst>
              <a:path w="1762" h="1341">
                <a:moveTo>
                  <a:pt x="11385" y="7268"/>
                </a:moveTo>
                <a:cubicBezTo>
                  <a:pt x="11347" y="7364"/>
                  <a:pt x="11124" y="7496"/>
                  <a:pt x="11212" y="7441"/>
                </a:cubicBezTo>
                <a:cubicBezTo>
                  <a:pt x="11228" y="7441"/>
                  <a:pt x="11245" y="7441"/>
                  <a:pt x="11261" y="7441"/>
                </a:cubicBezTo>
                <a:cubicBezTo>
                  <a:pt x="11347" y="7482"/>
                  <a:pt x="11717" y="7734"/>
                  <a:pt x="11757" y="7541"/>
                </a:cubicBezTo>
                <a:cubicBezTo>
                  <a:pt x="11757" y="7466"/>
                  <a:pt x="11757" y="7392"/>
                  <a:pt x="11757" y="7317"/>
                </a:cubicBezTo>
              </a:path>
              <a:path w="1762" h="1341">
                <a:moveTo>
                  <a:pt x="11683" y="6896"/>
                </a:moveTo>
                <a:cubicBezTo>
                  <a:pt x="11689" y="7169"/>
                  <a:pt x="11590" y="7750"/>
                  <a:pt x="11708" y="7987"/>
                </a:cubicBezTo>
                <a:cubicBezTo>
                  <a:pt x="11716" y="7962"/>
                  <a:pt x="11725" y="7938"/>
                  <a:pt x="11733" y="7913"/>
                </a:cubicBezTo>
              </a:path>
              <a:path w="1762" h="1341">
                <a:moveTo>
                  <a:pt x="11981" y="7119"/>
                </a:moveTo>
                <a:cubicBezTo>
                  <a:pt x="12164" y="7063"/>
                  <a:pt x="12524" y="6994"/>
                  <a:pt x="12303" y="7317"/>
                </a:cubicBezTo>
                <a:cubicBezTo>
                  <a:pt x="12262" y="7358"/>
                  <a:pt x="12220" y="7400"/>
                  <a:pt x="12179" y="7441"/>
                </a:cubicBezTo>
                <a:cubicBezTo>
                  <a:pt x="12162" y="7449"/>
                  <a:pt x="12146" y="7458"/>
                  <a:pt x="12129" y="7466"/>
                </a:cubicBezTo>
                <a:cubicBezTo>
                  <a:pt x="12363" y="7380"/>
                  <a:pt x="12668" y="7521"/>
                  <a:pt x="12452" y="7838"/>
                </a:cubicBezTo>
                <a:cubicBezTo>
                  <a:pt x="12265" y="8112"/>
                  <a:pt x="12002" y="8145"/>
                  <a:pt x="11733" y="8136"/>
                </a:cubicBezTo>
              </a:path>
              <a:path w="1762" h="1341">
                <a:moveTo>
                  <a:pt x="12750" y="6871"/>
                </a:moveTo>
                <a:cubicBezTo>
                  <a:pt x="12727" y="6983"/>
                  <a:pt x="12712" y="7014"/>
                  <a:pt x="12774" y="7069"/>
                </a:cubicBezTo>
                <a:cubicBezTo>
                  <a:pt x="12995" y="6996"/>
                  <a:pt x="13031" y="6914"/>
                  <a:pt x="12799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46960" y="3625920"/>
            <a:ext cx="455760" cy="384120"/>
          </a:xfrm>
          <a:custGeom>
            <a:avLst/>
            <a:gdLst/>
            <a:ahLst/>
            <a:rect l="l" t="t" r="r" b="b"/>
            <a:pathLst>
              <a:path w="1266" h="1067">
                <a:moveTo>
                  <a:pt x="20786" y="10716"/>
                </a:moveTo>
                <a:cubicBezTo>
                  <a:pt x="20732" y="10742"/>
                  <a:pt x="20712" y="10747"/>
                  <a:pt x="20687" y="10691"/>
                </a:cubicBezTo>
                <a:cubicBezTo>
                  <a:pt x="20816" y="10580"/>
                  <a:pt x="20901" y="10712"/>
                  <a:pt x="21059" y="10740"/>
                </a:cubicBezTo>
                <a:cubicBezTo>
                  <a:pt x="21168" y="10740"/>
                  <a:pt x="21195" y="10745"/>
                  <a:pt x="21258" y="10716"/>
                </a:cubicBezTo>
              </a:path>
              <a:path w="1266" h="1067">
                <a:moveTo>
                  <a:pt x="21134" y="10071"/>
                </a:moveTo>
                <a:cubicBezTo>
                  <a:pt x="21150" y="10396"/>
                  <a:pt x="21225" y="10737"/>
                  <a:pt x="21183" y="11063"/>
                </a:cubicBezTo>
                <a:cubicBezTo>
                  <a:pt x="21143" y="11142"/>
                  <a:pt x="21145" y="11126"/>
                  <a:pt x="21208" y="10964"/>
                </a:cubicBezTo>
              </a:path>
              <a:path w="1266" h="1067">
                <a:moveTo>
                  <a:pt x="21456" y="10393"/>
                </a:moveTo>
                <a:cubicBezTo>
                  <a:pt x="21456" y="10467"/>
                  <a:pt x="21456" y="10476"/>
                  <a:pt x="21456" y="10517"/>
                </a:cubicBezTo>
                <a:cubicBezTo>
                  <a:pt x="21482" y="10399"/>
                  <a:pt x="21456" y="10239"/>
                  <a:pt x="21605" y="10220"/>
                </a:cubicBezTo>
                <a:cubicBezTo>
                  <a:pt x="21752" y="10201"/>
                  <a:pt x="21798" y="10197"/>
                  <a:pt x="21927" y="10120"/>
                </a:cubicBezTo>
                <a:cubicBezTo>
                  <a:pt x="21927" y="10365"/>
                  <a:pt x="21933" y="10627"/>
                  <a:pt x="21878" y="10864"/>
                </a:cubicBezTo>
                <a:cubicBezTo>
                  <a:pt x="21870" y="10872"/>
                  <a:pt x="21861" y="10881"/>
                  <a:pt x="21853" y="10889"/>
                </a:cubicBezTo>
              </a:path>
              <a:path w="1266" h="1067">
                <a:moveTo>
                  <a:pt x="20861" y="10294"/>
                </a:moveTo>
                <a:cubicBezTo>
                  <a:pt x="20861" y="10460"/>
                  <a:pt x="20846" y="10627"/>
                  <a:pt x="20811" y="10790"/>
                </a:cubicBezTo>
                <a:cubicBezTo>
                  <a:pt x="20803" y="10815"/>
                  <a:pt x="20794" y="10839"/>
                  <a:pt x="20786" y="10864"/>
                </a:cubicBezTo>
              </a:path>
              <a:path w="1266" h="1067">
                <a:moveTo>
                  <a:pt x="21927" y="10914"/>
                </a:moveTo>
                <a:cubicBezTo>
                  <a:pt x="21927" y="10889"/>
                  <a:pt x="21927" y="10881"/>
                  <a:pt x="21927" y="10864"/>
                </a:cubicBezTo>
                <a:cubicBezTo>
                  <a:pt x="21958" y="10946"/>
                  <a:pt x="21952" y="11041"/>
                  <a:pt x="21952" y="11137"/>
                </a:cubicBezTo>
              </a:path>
              <a:path w="1266" h="1067">
                <a:moveTo>
                  <a:pt x="21903" y="10964"/>
                </a:moveTo>
                <a:cubicBezTo>
                  <a:pt x="21903" y="10840"/>
                  <a:pt x="21903" y="10765"/>
                  <a:pt x="21903" y="10641"/>
                </a:cubicBezTo>
                <a:cubicBezTo>
                  <a:pt x="21903" y="10567"/>
                  <a:pt x="21903" y="10558"/>
                  <a:pt x="21903" y="105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55000" y="3490920"/>
            <a:ext cx="71280" cy="108000"/>
          </a:xfrm>
          <a:custGeom>
            <a:avLst/>
            <a:gdLst/>
            <a:ahLst/>
            <a:rect l="l" t="t" r="r" b="b"/>
            <a:pathLst>
              <a:path w="199" h="298">
                <a:moveTo>
                  <a:pt x="22448" y="9723"/>
                </a:moveTo>
                <a:cubicBezTo>
                  <a:pt x="22402" y="9857"/>
                  <a:pt x="22383" y="9875"/>
                  <a:pt x="22448" y="9996"/>
                </a:cubicBezTo>
                <a:cubicBezTo>
                  <a:pt x="22498" y="9960"/>
                  <a:pt x="22710" y="9687"/>
                  <a:pt x="22498" y="9699"/>
                </a:cubicBezTo>
                <a:cubicBezTo>
                  <a:pt x="22457" y="9715"/>
                  <a:pt x="22415" y="9732"/>
                  <a:pt x="22374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19960" y="4660920"/>
            <a:ext cx="812880" cy="519120"/>
          </a:xfrm>
          <a:custGeom>
            <a:avLst/>
            <a:gdLst/>
            <a:ahLst/>
            <a:rect l="l" t="t" r="r" b="b"/>
            <a:pathLst>
              <a:path w="2258" h="1440">
                <a:moveTo>
                  <a:pt x="20613" y="13295"/>
                </a:moveTo>
                <a:cubicBezTo>
                  <a:pt x="20676" y="13316"/>
                  <a:pt x="20638" y="13877"/>
                  <a:pt x="20638" y="13891"/>
                </a:cubicBezTo>
                <a:cubicBezTo>
                  <a:pt x="20638" y="14065"/>
                  <a:pt x="20638" y="14536"/>
                  <a:pt x="20638" y="14362"/>
                </a:cubicBezTo>
              </a:path>
              <a:path w="2258" h="1440">
                <a:moveTo>
                  <a:pt x="21059" y="13395"/>
                </a:moveTo>
                <a:cubicBezTo>
                  <a:pt x="21078" y="13318"/>
                  <a:pt x="21261" y="13241"/>
                  <a:pt x="21332" y="13295"/>
                </a:cubicBezTo>
                <a:cubicBezTo>
                  <a:pt x="21487" y="13413"/>
                  <a:pt x="21271" y="13604"/>
                  <a:pt x="21208" y="13692"/>
                </a:cubicBezTo>
                <a:cubicBezTo>
                  <a:pt x="21087" y="13813"/>
                  <a:pt x="21327" y="13589"/>
                  <a:pt x="21431" y="13667"/>
                </a:cubicBezTo>
                <a:cubicBezTo>
                  <a:pt x="21717" y="13883"/>
                  <a:pt x="21323" y="14239"/>
                  <a:pt x="21134" y="14312"/>
                </a:cubicBezTo>
                <a:cubicBezTo>
                  <a:pt x="20756" y="14457"/>
                  <a:pt x="20955" y="14137"/>
                  <a:pt x="21059" y="14015"/>
                </a:cubicBezTo>
              </a:path>
              <a:path w="2258" h="1440">
                <a:moveTo>
                  <a:pt x="21803" y="13469"/>
                </a:moveTo>
                <a:cubicBezTo>
                  <a:pt x="21737" y="13469"/>
                  <a:pt x="21797" y="13308"/>
                  <a:pt x="21878" y="13271"/>
                </a:cubicBezTo>
                <a:cubicBezTo>
                  <a:pt x="22021" y="13206"/>
                  <a:pt x="22181" y="13227"/>
                  <a:pt x="22324" y="13146"/>
                </a:cubicBezTo>
                <a:cubicBezTo>
                  <a:pt x="22332" y="13138"/>
                  <a:pt x="22341" y="13130"/>
                  <a:pt x="22349" y="13122"/>
                </a:cubicBezTo>
                <a:cubicBezTo>
                  <a:pt x="22376" y="13433"/>
                  <a:pt x="22306" y="13735"/>
                  <a:pt x="22225" y="14039"/>
                </a:cubicBezTo>
                <a:cubicBezTo>
                  <a:pt x="22127" y="14407"/>
                  <a:pt x="22160" y="14123"/>
                  <a:pt x="22225" y="14188"/>
                </a:cubicBezTo>
              </a:path>
              <a:path w="2258" h="1440">
                <a:moveTo>
                  <a:pt x="22820" y="12948"/>
                </a:moveTo>
                <a:cubicBezTo>
                  <a:pt x="22780" y="12977"/>
                  <a:pt x="22715" y="13141"/>
                  <a:pt x="22820" y="13097"/>
                </a:cubicBezTo>
                <a:cubicBezTo>
                  <a:pt x="22913" y="13058"/>
                  <a:pt x="22856" y="13011"/>
                  <a:pt x="22746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Unit 15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identify Complimentary, Supplementary, Vertical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jac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spo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98880" y="5099040"/>
            <a:ext cx="3394080" cy="115920"/>
          </a:xfrm>
          <a:custGeom>
            <a:avLst/>
            <a:gdLst/>
            <a:ahLst/>
            <a:rect l="l" t="t" r="r" b="b"/>
            <a:pathLst>
              <a:path w="9427" h="324">
                <a:moveTo>
                  <a:pt x="8607" y="14238"/>
                </a:moveTo>
                <a:cubicBezTo>
                  <a:pt x="8688" y="14238"/>
                  <a:pt x="8751" y="14236"/>
                  <a:pt x="8830" y="14213"/>
                </a:cubicBezTo>
                <a:cubicBezTo>
                  <a:pt x="8902" y="14191"/>
                  <a:pt x="8982" y="14171"/>
                  <a:pt x="9054" y="14163"/>
                </a:cubicBezTo>
                <a:cubicBezTo>
                  <a:pt x="9117" y="14156"/>
                  <a:pt x="9167" y="14182"/>
                  <a:pt x="9227" y="14188"/>
                </a:cubicBezTo>
                <a:cubicBezTo>
                  <a:pt x="9328" y="14198"/>
                  <a:pt x="9402" y="14183"/>
                  <a:pt x="9500" y="14213"/>
                </a:cubicBezTo>
                <a:cubicBezTo>
                  <a:pt x="9626" y="14252"/>
                  <a:pt x="9744" y="14222"/>
                  <a:pt x="9872" y="14238"/>
                </a:cubicBezTo>
                <a:cubicBezTo>
                  <a:pt x="10024" y="14257"/>
                  <a:pt x="10165" y="14263"/>
                  <a:pt x="10319" y="14263"/>
                </a:cubicBezTo>
                <a:cubicBezTo>
                  <a:pt x="10385" y="14263"/>
                  <a:pt x="10428" y="14281"/>
                  <a:pt x="10492" y="14288"/>
                </a:cubicBezTo>
                <a:cubicBezTo>
                  <a:pt x="10561" y="14296"/>
                  <a:pt x="10708" y="14285"/>
                  <a:pt x="10740" y="14288"/>
                </a:cubicBezTo>
                <a:cubicBezTo>
                  <a:pt x="10748" y="14288"/>
                  <a:pt x="10757" y="14288"/>
                  <a:pt x="10765" y="14288"/>
                </a:cubicBezTo>
              </a:path>
              <a:path w="9427" h="324">
                <a:moveTo>
                  <a:pt x="12576" y="14387"/>
                </a:moveTo>
                <a:cubicBezTo>
                  <a:pt x="13482" y="14387"/>
                  <a:pt x="14409" y="14327"/>
                  <a:pt x="15304" y="14387"/>
                </a:cubicBezTo>
                <a:cubicBezTo>
                  <a:pt x="15505" y="14400"/>
                  <a:pt x="15704" y="14379"/>
                  <a:pt x="15900" y="14362"/>
                </a:cubicBezTo>
                <a:cubicBezTo>
                  <a:pt x="16037" y="14350"/>
                  <a:pt x="16164" y="14378"/>
                  <a:pt x="16297" y="14387"/>
                </a:cubicBezTo>
                <a:cubicBezTo>
                  <a:pt x="16404" y="14394"/>
                  <a:pt x="16516" y="14405"/>
                  <a:pt x="16619" y="14412"/>
                </a:cubicBezTo>
                <a:cubicBezTo>
                  <a:pt x="16765" y="14421"/>
                  <a:pt x="16921" y="14419"/>
                  <a:pt x="17066" y="14436"/>
                </a:cubicBezTo>
                <a:cubicBezTo>
                  <a:pt x="17230" y="14456"/>
                  <a:pt x="17396" y="14483"/>
                  <a:pt x="17562" y="14486"/>
                </a:cubicBezTo>
                <a:cubicBezTo>
                  <a:pt x="17701" y="14489"/>
                  <a:pt x="17825" y="14488"/>
                  <a:pt x="17959" y="14461"/>
                </a:cubicBezTo>
                <a:cubicBezTo>
                  <a:pt x="17999" y="14441"/>
                  <a:pt x="18005" y="14432"/>
                  <a:pt x="18033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aramond"/>
              </a:rPr>
              <a:t>Students will identify Complimentary, Supplementary, Vertical, Adjacent and Corresponding Angles</a:t>
            </a:r>
            <a:r>
              <a:rPr b="0" lang="en-US" sz="3800" spc="-1" strike="noStrike">
                <a:solidFill>
                  <a:srgbClr val="cc0000"/>
                </a:solidFill>
                <a:latin typeface="Ravie"/>
              </a:rPr>
              <a:t> </a:t>
            </a:r>
            <a:br>
              <a:rPr sz="4500"/>
            </a:br>
            <a:r>
              <a:rPr b="0" lang="en-US" sz="4500" spc="-1" strike="noStrike">
                <a:solidFill>
                  <a:srgbClr val="cc0000"/>
                </a:solidFill>
                <a:latin typeface="Castellar"/>
              </a:rPr>
              <a:t>Adjacent Angles</a:t>
            </a:r>
            <a:endParaRPr b="0" lang="en-US" sz="45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jacent Angle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Angles that share a common ray (side). These angles are next to each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2371680" cy="2354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402000" y="3732120"/>
            <a:ext cx="81000" cy="9072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9575" y="10468"/>
                </a:moveTo>
                <a:cubicBezTo>
                  <a:pt x="9575" y="10443"/>
                  <a:pt x="9575" y="10435"/>
                  <a:pt x="9575" y="10418"/>
                </a:cubicBezTo>
                <a:cubicBezTo>
                  <a:pt x="9502" y="10363"/>
                  <a:pt x="9451" y="10467"/>
                  <a:pt x="9451" y="10542"/>
                </a:cubicBezTo>
                <a:cubicBezTo>
                  <a:pt x="9451" y="10665"/>
                  <a:pt x="9668" y="10568"/>
                  <a:pt x="9674" y="10468"/>
                </a:cubicBezTo>
                <a:cubicBezTo>
                  <a:pt x="9685" y="10287"/>
                  <a:pt x="9517" y="10377"/>
                  <a:pt x="9475" y="10468"/>
                </a:cubicBezTo>
                <a:cubicBezTo>
                  <a:pt x="9455" y="10552"/>
                  <a:pt x="9440" y="10571"/>
                  <a:pt x="9475" y="10616"/>
                </a:cubicBezTo>
                <a:cubicBezTo>
                  <a:pt x="9518" y="10598"/>
                  <a:pt x="9744" y="10361"/>
                  <a:pt x="9575" y="10393"/>
                </a:cubicBezTo>
                <a:cubicBezTo>
                  <a:pt x="9503" y="10407"/>
                  <a:pt x="9495" y="10510"/>
                  <a:pt x="9500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90880" y="3633840"/>
            <a:ext cx="162000" cy="277920"/>
          </a:xfrm>
          <a:custGeom>
            <a:avLst/>
            <a:gdLst/>
            <a:ahLst/>
            <a:rect l="l" t="t" r="r" b="b"/>
            <a:pathLst>
              <a:path w="447" h="769">
                <a:moveTo>
                  <a:pt x="8483" y="10344"/>
                </a:moveTo>
                <a:cubicBezTo>
                  <a:pt x="8470" y="10452"/>
                  <a:pt x="8506" y="10786"/>
                  <a:pt x="8434" y="10864"/>
                </a:cubicBezTo>
                <a:cubicBezTo>
                  <a:pt x="8434" y="10848"/>
                  <a:pt x="8434" y="10831"/>
                  <a:pt x="8434" y="10815"/>
                </a:cubicBezTo>
                <a:cubicBezTo>
                  <a:pt x="8453" y="10563"/>
                  <a:pt x="8502" y="10349"/>
                  <a:pt x="8607" y="10120"/>
                </a:cubicBezTo>
                <a:cubicBezTo>
                  <a:pt x="8723" y="10122"/>
                  <a:pt x="8745" y="10394"/>
                  <a:pt x="8756" y="10517"/>
                </a:cubicBezTo>
                <a:cubicBezTo>
                  <a:pt x="8764" y="10614"/>
                  <a:pt x="8756" y="10717"/>
                  <a:pt x="8756" y="10815"/>
                </a:cubicBezTo>
              </a:path>
              <a:path w="447" h="769">
                <a:moveTo>
                  <a:pt x="8310" y="10616"/>
                </a:moveTo>
                <a:cubicBezTo>
                  <a:pt x="8459" y="10576"/>
                  <a:pt x="8622" y="10533"/>
                  <a:pt x="8756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43160" y="5581800"/>
            <a:ext cx="206640" cy="204480"/>
          </a:xfrm>
          <a:custGeom>
            <a:avLst/>
            <a:gdLst/>
            <a:ahLst/>
            <a:rect l="l" t="t" r="r" b="b"/>
            <a:pathLst>
              <a:path w="572" h="571">
                <a:moveTo>
                  <a:pt x="8905" y="15503"/>
                </a:moveTo>
                <a:cubicBezTo>
                  <a:pt x="8963" y="15522"/>
                  <a:pt x="8934" y="15809"/>
                  <a:pt x="8930" y="15850"/>
                </a:cubicBezTo>
                <a:cubicBezTo>
                  <a:pt x="8911" y="15966"/>
                  <a:pt x="8902" y="15982"/>
                  <a:pt x="8905" y="16049"/>
                </a:cubicBezTo>
              </a:path>
              <a:path w="572" h="571">
                <a:moveTo>
                  <a:pt x="8731" y="15577"/>
                </a:moveTo>
                <a:cubicBezTo>
                  <a:pt x="8902" y="15510"/>
                  <a:pt x="9112" y="15486"/>
                  <a:pt x="9252" y="15652"/>
                </a:cubicBezTo>
                <a:cubicBezTo>
                  <a:pt x="9429" y="15862"/>
                  <a:pt x="9146" y="16029"/>
                  <a:pt x="8979" y="16073"/>
                </a:cubicBezTo>
                <a:cubicBezTo>
                  <a:pt x="8918" y="16073"/>
                  <a:pt x="8903" y="16082"/>
                  <a:pt x="8880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30840" y="4491000"/>
            <a:ext cx="54000" cy="6336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3519" y="12502"/>
                </a:moveTo>
                <a:cubicBezTo>
                  <a:pt x="13543" y="12502"/>
                  <a:pt x="13551" y="12502"/>
                  <a:pt x="13543" y="12477"/>
                </a:cubicBezTo>
                <a:cubicBezTo>
                  <a:pt x="13536" y="12483"/>
                  <a:pt x="13433" y="12612"/>
                  <a:pt x="13494" y="12601"/>
                </a:cubicBezTo>
                <a:cubicBezTo>
                  <a:pt x="13629" y="12577"/>
                  <a:pt x="13564" y="12424"/>
                  <a:pt x="13494" y="12502"/>
                </a:cubicBezTo>
                <a:cubicBezTo>
                  <a:pt x="13422" y="12582"/>
                  <a:pt x="13403" y="12739"/>
                  <a:pt x="13543" y="12626"/>
                </a:cubicBezTo>
                <a:cubicBezTo>
                  <a:pt x="13607" y="12574"/>
                  <a:pt x="13566" y="12510"/>
                  <a:pt x="13494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49840" y="4098960"/>
            <a:ext cx="117360" cy="223920"/>
          </a:xfrm>
          <a:custGeom>
            <a:avLst/>
            <a:gdLst/>
            <a:ahLst/>
            <a:rect l="l" t="t" r="r" b="b"/>
            <a:pathLst>
              <a:path w="324" h="621">
                <a:moveTo>
                  <a:pt x="13271" y="11658"/>
                </a:moveTo>
                <a:cubicBezTo>
                  <a:pt x="13250" y="11777"/>
                  <a:pt x="13229" y="11889"/>
                  <a:pt x="13196" y="12005"/>
                </a:cubicBezTo>
                <a:cubicBezTo>
                  <a:pt x="13219" y="11825"/>
                  <a:pt x="13216" y="11617"/>
                  <a:pt x="13320" y="11460"/>
                </a:cubicBezTo>
                <a:cubicBezTo>
                  <a:pt x="13353" y="11435"/>
                  <a:pt x="13386" y="11410"/>
                  <a:pt x="13419" y="11385"/>
                </a:cubicBezTo>
                <a:cubicBezTo>
                  <a:pt x="13489" y="11490"/>
                  <a:pt x="13464" y="11554"/>
                  <a:pt x="13395" y="11658"/>
                </a:cubicBezTo>
                <a:cubicBezTo>
                  <a:pt x="13387" y="11666"/>
                  <a:pt x="13378" y="11675"/>
                  <a:pt x="13370" y="11683"/>
                </a:cubicBezTo>
                <a:cubicBezTo>
                  <a:pt x="13450" y="11629"/>
                  <a:pt x="13578" y="11630"/>
                  <a:pt x="13519" y="11782"/>
                </a:cubicBezTo>
                <a:cubicBezTo>
                  <a:pt x="13468" y="11915"/>
                  <a:pt x="13342" y="11931"/>
                  <a:pt x="13221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3680" y="5446800"/>
            <a:ext cx="80640" cy="810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14511" y="15180"/>
                </a:moveTo>
                <a:cubicBezTo>
                  <a:pt x="14469" y="15150"/>
                  <a:pt x="14438" y="15117"/>
                  <a:pt x="14387" y="15156"/>
                </a:cubicBezTo>
                <a:cubicBezTo>
                  <a:pt x="14297" y="15225"/>
                  <a:pt x="14312" y="15233"/>
                  <a:pt x="14312" y="15329"/>
                </a:cubicBezTo>
                <a:cubicBezTo>
                  <a:pt x="14349" y="15312"/>
                  <a:pt x="14580" y="15149"/>
                  <a:pt x="14412" y="15156"/>
                </a:cubicBezTo>
                <a:cubicBezTo>
                  <a:pt x="14289" y="15161"/>
                  <a:pt x="14301" y="15267"/>
                  <a:pt x="14288" y="15354"/>
                </a:cubicBezTo>
                <a:cubicBezTo>
                  <a:pt x="14321" y="15350"/>
                  <a:pt x="14523" y="15249"/>
                  <a:pt x="14436" y="15205"/>
                </a:cubicBezTo>
                <a:cubicBezTo>
                  <a:pt x="14365" y="15169"/>
                  <a:pt x="14382" y="15270"/>
                  <a:pt x="14387" y="152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5072040"/>
            <a:ext cx="108000" cy="206280"/>
          </a:xfrm>
          <a:custGeom>
            <a:avLst/>
            <a:gdLst/>
            <a:ahLst/>
            <a:rect l="l" t="t" r="r" b="b"/>
            <a:pathLst>
              <a:path w="298" h="572">
                <a:moveTo>
                  <a:pt x="14560" y="14188"/>
                </a:moveTo>
                <a:cubicBezTo>
                  <a:pt x="14568" y="14205"/>
                  <a:pt x="14577" y="14221"/>
                  <a:pt x="14585" y="14238"/>
                </a:cubicBezTo>
                <a:cubicBezTo>
                  <a:pt x="14582" y="14222"/>
                  <a:pt x="14538" y="14004"/>
                  <a:pt x="14486" y="14114"/>
                </a:cubicBezTo>
                <a:cubicBezTo>
                  <a:pt x="14430" y="14233"/>
                  <a:pt x="14306" y="14675"/>
                  <a:pt x="14560" y="14660"/>
                </a:cubicBezTo>
                <a:cubicBezTo>
                  <a:pt x="14624" y="14656"/>
                  <a:pt x="14657" y="14598"/>
                  <a:pt x="14709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32200" y="2955960"/>
            <a:ext cx="1260720" cy="465120"/>
          </a:xfrm>
          <a:custGeom>
            <a:avLst/>
            <a:gdLst/>
            <a:ahLst/>
            <a:rect l="l" t="t" r="r" b="b"/>
            <a:pathLst>
              <a:path w="3499" h="1291">
                <a:moveTo>
                  <a:pt x="13841" y="8483"/>
                </a:moveTo>
                <a:cubicBezTo>
                  <a:pt x="13777" y="8741"/>
                  <a:pt x="13572" y="8912"/>
                  <a:pt x="13370" y="9079"/>
                </a:cubicBezTo>
                <a:cubicBezTo>
                  <a:pt x="13235" y="9175"/>
                  <a:pt x="13211" y="9183"/>
                  <a:pt x="13146" y="9252"/>
                </a:cubicBezTo>
                <a:cubicBezTo>
                  <a:pt x="13404" y="9226"/>
                  <a:pt x="13656" y="9173"/>
                  <a:pt x="13915" y="9153"/>
                </a:cubicBezTo>
                <a:cubicBezTo>
                  <a:pt x="13948" y="9153"/>
                  <a:pt x="13982" y="9153"/>
                  <a:pt x="14015" y="9153"/>
                </a:cubicBezTo>
              </a:path>
              <a:path w="3499" h="1291">
                <a:moveTo>
                  <a:pt x="14560" y="8409"/>
                </a:moveTo>
                <a:cubicBezTo>
                  <a:pt x="14552" y="8599"/>
                  <a:pt x="14541" y="8788"/>
                  <a:pt x="14536" y="8979"/>
                </a:cubicBezTo>
                <a:cubicBezTo>
                  <a:pt x="14536" y="9353"/>
                  <a:pt x="14583" y="8637"/>
                  <a:pt x="14585" y="8632"/>
                </a:cubicBezTo>
                <a:cubicBezTo>
                  <a:pt x="14690" y="8402"/>
                  <a:pt x="14702" y="8348"/>
                  <a:pt x="14808" y="8235"/>
                </a:cubicBezTo>
                <a:cubicBezTo>
                  <a:pt x="15047" y="8255"/>
                  <a:pt x="15017" y="8610"/>
                  <a:pt x="15032" y="8830"/>
                </a:cubicBezTo>
                <a:cubicBezTo>
                  <a:pt x="15032" y="8956"/>
                  <a:pt x="15039" y="8983"/>
                  <a:pt x="15007" y="9054"/>
                </a:cubicBezTo>
              </a:path>
              <a:path w="3499" h="1291">
                <a:moveTo>
                  <a:pt x="14560" y="8855"/>
                </a:moveTo>
                <a:cubicBezTo>
                  <a:pt x="14684" y="8814"/>
                  <a:pt x="14802" y="8773"/>
                  <a:pt x="14932" y="8756"/>
                </a:cubicBezTo>
              </a:path>
              <a:path w="3499" h="1291">
                <a:moveTo>
                  <a:pt x="15478" y="8359"/>
                </a:moveTo>
                <a:cubicBezTo>
                  <a:pt x="15542" y="8338"/>
                  <a:pt x="15502" y="8739"/>
                  <a:pt x="15503" y="8756"/>
                </a:cubicBezTo>
                <a:cubicBezTo>
                  <a:pt x="15524" y="8922"/>
                  <a:pt x="15540" y="8957"/>
                  <a:pt x="15503" y="9054"/>
                </a:cubicBezTo>
              </a:path>
              <a:path w="3499" h="1291">
                <a:moveTo>
                  <a:pt x="15180" y="8384"/>
                </a:moveTo>
                <a:cubicBezTo>
                  <a:pt x="15432" y="8405"/>
                  <a:pt x="15776" y="8440"/>
                  <a:pt x="15875" y="8731"/>
                </a:cubicBezTo>
                <a:cubicBezTo>
                  <a:pt x="15950" y="8952"/>
                  <a:pt x="15669" y="9092"/>
                  <a:pt x="15503" y="9079"/>
                </a:cubicBezTo>
                <a:cubicBezTo>
                  <a:pt x="15453" y="9029"/>
                  <a:pt x="15470" y="8996"/>
                  <a:pt x="15577" y="8954"/>
                </a:cubicBezTo>
              </a:path>
              <a:path w="3499" h="1291">
                <a:moveTo>
                  <a:pt x="16123" y="8434"/>
                </a:moveTo>
                <a:cubicBezTo>
                  <a:pt x="16230" y="8513"/>
                  <a:pt x="16213" y="8747"/>
                  <a:pt x="16247" y="8880"/>
                </a:cubicBezTo>
                <a:cubicBezTo>
                  <a:pt x="16286" y="9032"/>
                  <a:pt x="16241" y="8880"/>
                  <a:pt x="16222" y="8806"/>
                </a:cubicBezTo>
              </a:path>
              <a:path w="3499" h="1291">
                <a:moveTo>
                  <a:pt x="15974" y="8409"/>
                </a:moveTo>
                <a:cubicBezTo>
                  <a:pt x="16056" y="8373"/>
                  <a:pt x="16465" y="8187"/>
                  <a:pt x="16495" y="8409"/>
                </a:cubicBezTo>
                <a:cubicBezTo>
                  <a:pt x="16512" y="8532"/>
                  <a:pt x="16344" y="8578"/>
                  <a:pt x="16272" y="8607"/>
                </a:cubicBezTo>
                <a:cubicBezTo>
                  <a:pt x="16249" y="8630"/>
                  <a:pt x="16241" y="8641"/>
                  <a:pt x="16247" y="8607"/>
                </a:cubicBezTo>
                <a:cubicBezTo>
                  <a:pt x="16365" y="8566"/>
                  <a:pt x="16638" y="8503"/>
                  <a:pt x="16644" y="8731"/>
                </a:cubicBezTo>
                <a:cubicBezTo>
                  <a:pt x="16649" y="8921"/>
                  <a:pt x="16435" y="8968"/>
                  <a:pt x="16297" y="8979"/>
                </a:cubicBezTo>
              </a:path>
              <a:path w="3499" h="1291">
                <a:moveTo>
                  <a:pt x="15577" y="9426"/>
                </a:moveTo>
                <a:cubicBezTo>
                  <a:pt x="15592" y="9471"/>
                  <a:pt x="15697" y="9461"/>
                  <a:pt x="15751" y="9451"/>
                </a:cubicBezTo>
                <a:cubicBezTo>
                  <a:pt x="15865" y="9430"/>
                  <a:pt x="15985" y="9424"/>
                  <a:pt x="16098" y="9401"/>
                </a:cubicBezTo>
                <a:cubicBezTo>
                  <a:pt x="16218" y="9377"/>
                  <a:pt x="16321" y="9376"/>
                  <a:pt x="16446" y="9376"/>
                </a:cubicBezTo>
                <a:cubicBezTo>
                  <a:pt x="16497" y="9376"/>
                  <a:pt x="16539" y="9351"/>
                  <a:pt x="16594" y="9351"/>
                </a:cubicBezTo>
                <a:cubicBezTo>
                  <a:pt x="16602" y="9351"/>
                  <a:pt x="16611" y="9351"/>
                  <a:pt x="16619" y="9351"/>
                </a:cubicBezTo>
                <a:cubicBezTo>
                  <a:pt x="16536" y="9319"/>
                  <a:pt x="16348" y="9361"/>
                  <a:pt x="16247" y="9376"/>
                </a:cubicBezTo>
                <a:cubicBezTo>
                  <a:pt x="16091" y="9398"/>
                  <a:pt x="15928" y="9396"/>
                  <a:pt x="15776" y="9426"/>
                </a:cubicBezTo>
                <a:cubicBezTo>
                  <a:pt x="15701" y="9441"/>
                  <a:pt x="15617" y="9482"/>
                  <a:pt x="15553" y="9500"/>
                </a:cubicBezTo>
                <a:cubicBezTo>
                  <a:pt x="15518" y="9510"/>
                  <a:pt x="15466" y="9500"/>
                  <a:pt x="15429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45160" y="3027240"/>
            <a:ext cx="571680" cy="420840"/>
          </a:xfrm>
          <a:custGeom>
            <a:avLst/>
            <a:gdLst/>
            <a:ahLst/>
            <a:rect l="l" t="t" r="r" b="b"/>
            <a:pathLst>
              <a:path w="1588" h="1167">
                <a:moveTo>
                  <a:pt x="18504" y="8855"/>
                </a:moveTo>
                <a:cubicBezTo>
                  <a:pt x="18646" y="8855"/>
                  <a:pt x="18532" y="8720"/>
                  <a:pt x="18504" y="8657"/>
                </a:cubicBezTo>
                <a:cubicBezTo>
                  <a:pt x="18336" y="8682"/>
                  <a:pt x="18008" y="8938"/>
                  <a:pt x="18231" y="9178"/>
                </a:cubicBezTo>
                <a:cubicBezTo>
                  <a:pt x="18384" y="9343"/>
                  <a:pt x="18512" y="8944"/>
                  <a:pt x="18529" y="8905"/>
                </a:cubicBezTo>
                <a:cubicBezTo>
                  <a:pt x="18529" y="8784"/>
                  <a:pt x="18572" y="9115"/>
                  <a:pt x="18604" y="9153"/>
                </a:cubicBezTo>
                <a:cubicBezTo>
                  <a:pt x="18637" y="9170"/>
                  <a:pt x="18670" y="9186"/>
                  <a:pt x="18703" y="9203"/>
                </a:cubicBezTo>
              </a:path>
              <a:path w="1588" h="1167">
                <a:moveTo>
                  <a:pt x="19100" y="8806"/>
                </a:moveTo>
                <a:cubicBezTo>
                  <a:pt x="18920" y="8726"/>
                  <a:pt x="18827" y="8858"/>
                  <a:pt x="18777" y="9054"/>
                </a:cubicBezTo>
                <a:cubicBezTo>
                  <a:pt x="18666" y="9491"/>
                  <a:pt x="19051" y="9135"/>
                  <a:pt x="19124" y="9029"/>
                </a:cubicBezTo>
              </a:path>
              <a:path w="1588" h="1167">
                <a:moveTo>
                  <a:pt x="18951" y="8409"/>
                </a:moveTo>
                <a:cubicBezTo>
                  <a:pt x="19024" y="8657"/>
                  <a:pt x="19051" y="8930"/>
                  <a:pt x="19124" y="9178"/>
                </a:cubicBezTo>
                <a:cubicBezTo>
                  <a:pt x="19166" y="9220"/>
                  <a:pt x="19191" y="9211"/>
                  <a:pt x="19224" y="9128"/>
                </a:cubicBezTo>
              </a:path>
              <a:path w="1588" h="1167">
                <a:moveTo>
                  <a:pt x="19348" y="8781"/>
                </a:moveTo>
                <a:cubicBezTo>
                  <a:pt x="19367" y="8981"/>
                  <a:pt x="19482" y="9156"/>
                  <a:pt x="19496" y="9351"/>
                </a:cubicBezTo>
                <a:cubicBezTo>
                  <a:pt x="19514" y="9608"/>
                  <a:pt x="19159" y="9686"/>
                  <a:pt x="19050" y="9451"/>
                </a:cubicBezTo>
                <a:cubicBezTo>
                  <a:pt x="19042" y="9368"/>
                  <a:pt x="19033" y="9286"/>
                  <a:pt x="19025" y="9203"/>
                </a:cubicBezTo>
              </a:path>
              <a:path w="1588" h="1167">
                <a:moveTo>
                  <a:pt x="19248" y="8508"/>
                </a:moveTo>
                <a:lnTo>
                  <a:pt x="19248" y="8508"/>
                </a:lnTo>
              </a:path>
              <a:path w="1588" h="1167">
                <a:moveTo>
                  <a:pt x="19745" y="8905"/>
                </a:moveTo>
                <a:cubicBezTo>
                  <a:pt x="19753" y="8913"/>
                  <a:pt x="19761" y="8922"/>
                  <a:pt x="19769" y="8930"/>
                </a:cubicBezTo>
              </a:path>
              <a:path w="1588" h="1167">
                <a:moveTo>
                  <a:pt x="19769" y="8930"/>
                </a:moveTo>
                <a:lnTo>
                  <a:pt x="19769" y="893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58040" y="2803680"/>
            <a:ext cx="1492200" cy="420480"/>
          </a:xfrm>
          <a:custGeom>
            <a:avLst/>
            <a:gdLst/>
            <a:ahLst/>
            <a:rect l="l" t="t" r="r" b="b"/>
            <a:pathLst>
              <a:path w="4143" h="1166">
                <a:moveTo>
                  <a:pt x="20538" y="8235"/>
                </a:moveTo>
                <a:cubicBezTo>
                  <a:pt x="20571" y="8324"/>
                  <a:pt x="20802" y="8890"/>
                  <a:pt x="20762" y="8806"/>
                </a:cubicBezTo>
              </a:path>
              <a:path w="4143" h="1166">
                <a:moveTo>
                  <a:pt x="20439" y="8508"/>
                </a:moveTo>
                <a:cubicBezTo>
                  <a:pt x="20637" y="8471"/>
                  <a:pt x="20833" y="8425"/>
                  <a:pt x="21034" y="8409"/>
                </a:cubicBezTo>
                <a:cubicBezTo>
                  <a:pt x="21013" y="8564"/>
                  <a:pt x="21011" y="8635"/>
                  <a:pt x="21059" y="8781"/>
                </a:cubicBezTo>
                <a:cubicBezTo>
                  <a:pt x="21218" y="8781"/>
                  <a:pt x="21498" y="8629"/>
                  <a:pt x="21233" y="8458"/>
                </a:cubicBezTo>
                <a:cubicBezTo>
                  <a:pt x="21183" y="8450"/>
                  <a:pt x="21134" y="8442"/>
                  <a:pt x="21084" y="8434"/>
                </a:cubicBezTo>
              </a:path>
              <a:path w="4143" h="1166">
                <a:moveTo>
                  <a:pt x="22151" y="8062"/>
                </a:moveTo>
                <a:cubicBezTo>
                  <a:pt x="22073" y="8257"/>
                  <a:pt x="22000" y="8436"/>
                  <a:pt x="21878" y="8607"/>
                </a:cubicBezTo>
                <a:cubicBezTo>
                  <a:pt x="22110" y="8598"/>
                  <a:pt x="22340" y="8569"/>
                  <a:pt x="22572" y="8558"/>
                </a:cubicBezTo>
              </a:path>
              <a:path w="4143" h="1166">
                <a:moveTo>
                  <a:pt x="22895" y="8161"/>
                </a:moveTo>
                <a:cubicBezTo>
                  <a:pt x="22895" y="8103"/>
                  <a:pt x="22895" y="8095"/>
                  <a:pt x="22895" y="8062"/>
                </a:cubicBezTo>
                <a:cubicBezTo>
                  <a:pt x="22895" y="8262"/>
                  <a:pt x="22930" y="8503"/>
                  <a:pt x="22870" y="8682"/>
                </a:cubicBezTo>
              </a:path>
              <a:path w="4143" h="1166">
                <a:moveTo>
                  <a:pt x="22820" y="8012"/>
                </a:moveTo>
                <a:cubicBezTo>
                  <a:pt x="23017" y="7999"/>
                  <a:pt x="23379" y="7947"/>
                  <a:pt x="23118" y="8235"/>
                </a:cubicBezTo>
                <a:cubicBezTo>
                  <a:pt x="23085" y="8260"/>
                  <a:pt x="23052" y="8285"/>
                  <a:pt x="23019" y="8310"/>
                </a:cubicBezTo>
                <a:cubicBezTo>
                  <a:pt x="23044" y="8293"/>
                  <a:pt x="23068" y="8277"/>
                  <a:pt x="23093" y="8260"/>
                </a:cubicBezTo>
                <a:cubicBezTo>
                  <a:pt x="23323" y="8333"/>
                  <a:pt x="23475" y="8521"/>
                  <a:pt x="23118" y="8632"/>
                </a:cubicBezTo>
                <a:cubicBezTo>
                  <a:pt x="22965" y="8632"/>
                  <a:pt x="22917" y="8651"/>
                  <a:pt x="22895" y="8533"/>
                </a:cubicBezTo>
              </a:path>
              <a:path w="4143" h="1166">
                <a:moveTo>
                  <a:pt x="23589" y="8062"/>
                </a:moveTo>
                <a:cubicBezTo>
                  <a:pt x="23598" y="8107"/>
                  <a:pt x="23664" y="8597"/>
                  <a:pt x="23664" y="8483"/>
                </a:cubicBezTo>
              </a:path>
              <a:path w="4143" h="1166">
                <a:moveTo>
                  <a:pt x="23416" y="7938"/>
                </a:moveTo>
                <a:cubicBezTo>
                  <a:pt x="23602" y="7974"/>
                  <a:pt x="24198" y="8074"/>
                  <a:pt x="23937" y="8434"/>
                </a:cubicBezTo>
                <a:cubicBezTo>
                  <a:pt x="23781" y="8650"/>
                  <a:pt x="23653" y="8563"/>
                  <a:pt x="23515" y="8458"/>
                </a:cubicBezTo>
              </a:path>
              <a:path w="4143" h="1166">
                <a:moveTo>
                  <a:pt x="24209" y="7813"/>
                </a:moveTo>
                <a:cubicBezTo>
                  <a:pt x="24234" y="7864"/>
                  <a:pt x="24235" y="7912"/>
                  <a:pt x="24259" y="7888"/>
                </a:cubicBezTo>
                <a:cubicBezTo>
                  <a:pt x="24163" y="7772"/>
                  <a:pt x="24062" y="7739"/>
                  <a:pt x="24036" y="7987"/>
                </a:cubicBezTo>
                <a:cubicBezTo>
                  <a:pt x="23998" y="8353"/>
                  <a:pt x="24213" y="8463"/>
                  <a:pt x="24507" y="8334"/>
                </a:cubicBezTo>
                <a:cubicBezTo>
                  <a:pt x="24563" y="8297"/>
                  <a:pt x="24609" y="8281"/>
                  <a:pt x="24557" y="8285"/>
                </a:cubicBezTo>
              </a:path>
              <a:path w="4143" h="1166">
                <a:moveTo>
                  <a:pt x="22994" y="8930"/>
                </a:moveTo>
                <a:cubicBezTo>
                  <a:pt x="23183" y="8906"/>
                  <a:pt x="23373" y="8866"/>
                  <a:pt x="23564" y="8855"/>
                </a:cubicBezTo>
                <a:cubicBezTo>
                  <a:pt x="23711" y="8847"/>
                  <a:pt x="23842" y="8854"/>
                  <a:pt x="23986" y="8830"/>
                </a:cubicBezTo>
                <a:cubicBezTo>
                  <a:pt x="24028" y="8893"/>
                  <a:pt x="23823" y="8826"/>
                  <a:pt x="23763" y="8830"/>
                </a:cubicBezTo>
                <a:cubicBezTo>
                  <a:pt x="23538" y="8847"/>
                  <a:pt x="23316" y="8919"/>
                  <a:pt x="23093" y="8954"/>
                </a:cubicBezTo>
                <a:cubicBezTo>
                  <a:pt x="23068" y="8954"/>
                  <a:pt x="23060" y="8954"/>
                  <a:pt x="23044" y="8954"/>
                </a:cubicBezTo>
                <a:cubicBezTo>
                  <a:pt x="23229" y="8936"/>
                  <a:pt x="23432" y="8890"/>
                  <a:pt x="23614" y="8855"/>
                </a:cubicBezTo>
                <a:cubicBezTo>
                  <a:pt x="23723" y="8834"/>
                  <a:pt x="23828" y="8797"/>
                  <a:pt x="23937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35000" y="2554200"/>
            <a:ext cx="2938680" cy="54000"/>
          </a:xfrm>
          <a:custGeom>
            <a:avLst/>
            <a:gdLst/>
            <a:ahLst/>
            <a:rect l="l" t="t" r="r" b="b"/>
            <a:pathLst>
              <a:path w="8162" h="150">
                <a:moveTo>
                  <a:pt x="2877" y="7218"/>
                </a:moveTo>
                <a:cubicBezTo>
                  <a:pt x="3041" y="7205"/>
                  <a:pt x="3209" y="7210"/>
                  <a:pt x="3373" y="7193"/>
                </a:cubicBezTo>
                <a:cubicBezTo>
                  <a:pt x="3581" y="7172"/>
                  <a:pt x="3762" y="7183"/>
                  <a:pt x="3969" y="7193"/>
                </a:cubicBezTo>
                <a:cubicBezTo>
                  <a:pt x="4158" y="7202"/>
                  <a:pt x="4350" y="7202"/>
                  <a:pt x="4539" y="7218"/>
                </a:cubicBezTo>
                <a:cubicBezTo>
                  <a:pt x="4650" y="7227"/>
                  <a:pt x="4750" y="7241"/>
                  <a:pt x="4862" y="7243"/>
                </a:cubicBezTo>
                <a:cubicBezTo>
                  <a:pt x="5301" y="7250"/>
                  <a:pt x="5740" y="7240"/>
                  <a:pt x="6176" y="7218"/>
                </a:cubicBezTo>
                <a:cubicBezTo>
                  <a:pt x="6367" y="7208"/>
                  <a:pt x="6557" y="7200"/>
                  <a:pt x="6747" y="7193"/>
                </a:cubicBezTo>
                <a:cubicBezTo>
                  <a:pt x="6882" y="7188"/>
                  <a:pt x="7011" y="7175"/>
                  <a:pt x="7144" y="7169"/>
                </a:cubicBezTo>
                <a:cubicBezTo>
                  <a:pt x="7326" y="7160"/>
                  <a:pt x="7509" y="7151"/>
                  <a:pt x="7689" y="7144"/>
                </a:cubicBezTo>
                <a:cubicBezTo>
                  <a:pt x="8151" y="7127"/>
                  <a:pt x="8620" y="7137"/>
                  <a:pt x="9079" y="7119"/>
                </a:cubicBezTo>
                <a:cubicBezTo>
                  <a:pt x="9238" y="7113"/>
                  <a:pt x="9392" y="7101"/>
                  <a:pt x="9550" y="7094"/>
                </a:cubicBezTo>
                <a:cubicBezTo>
                  <a:pt x="9857" y="7081"/>
                  <a:pt x="10164" y="7105"/>
                  <a:pt x="10468" y="7119"/>
                </a:cubicBezTo>
                <a:cubicBezTo>
                  <a:pt x="10657" y="7128"/>
                  <a:pt x="10849" y="7119"/>
                  <a:pt x="11038" y="71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hammer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aramond"/>
              </a:rPr>
              <a:t>Students will identify Complimentary, Supplementary, Vertical, Adjacent and Corresponding Angles</a:t>
            </a:r>
            <a:r>
              <a:rPr b="0" lang="en-US" sz="3800" spc="-1" strike="noStrike">
                <a:solidFill>
                  <a:srgbClr val="cc0000"/>
                </a:solidFill>
                <a:latin typeface="Ravie"/>
              </a:rPr>
              <a:t> </a:t>
            </a:r>
            <a:br>
              <a:rPr sz="3800"/>
            </a:br>
            <a:r>
              <a:rPr b="0" lang="en-US" sz="4200" spc="-1" strike="noStrike">
                <a:solidFill>
                  <a:srgbClr val="cc0000"/>
                </a:solidFill>
                <a:latin typeface="Franklin Gothic Demi Cond"/>
              </a:rPr>
              <a:t>Corresponding Ang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gles that are in the same position.  They are also equal in mea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066680" y="2590920"/>
            <a:ext cx="4143240" cy="3676680"/>
            <a:chOff x="1066680" y="2590920"/>
            <a:chExt cx="4143240" cy="36766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066680" y="2590920"/>
              <a:ext cx="4143240" cy="36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286000" y="3505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19160" y="35053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4600" y="3886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1800" y="3886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47760" y="4800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1280" y="4800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0400" y="5181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733920" y="5181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2895480"/>
            <a:ext cx="2971800" cy="2454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rresponding Ang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4760" y="1973160"/>
            <a:ext cx="5046480" cy="1982880"/>
          </a:xfrm>
          <a:custGeom>
            <a:avLst/>
            <a:gdLst/>
            <a:ahLst/>
            <a:rect l="l" t="t" r="r" b="b"/>
            <a:pathLst>
              <a:path w="14016" h="5507">
                <a:moveTo>
                  <a:pt x="13047" y="5755"/>
                </a:moveTo>
                <a:cubicBezTo>
                  <a:pt x="13124" y="5774"/>
                  <a:pt x="13165" y="5806"/>
                  <a:pt x="13246" y="5804"/>
                </a:cubicBezTo>
                <a:cubicBezTo>
                  <a:pt x="13336" y="5801"/>
                  <a:pt x="13426" y="5753"/>
                  <a:pt x="13519" y="5755"/>
                </a:cubicBezTo>
                <a:cubicBezTo>
                  <a:pt x="13589" y="5756"/>
                  <a:pt x="13645" y="5784"/>
                  <a:pt x="13717" y="5779"/>
                </a:cubicBezTo>
                <a:cubicBezTo>
                  <a:pt x="13874" y="5768"/>
                  <a:pt x="14028" y="5734"/>
                  <a:pt x="14188" y="5730"/>
                </a:cubicBezTo>
                <a:cubicBezTo>
                  <a:pt x="14336" y="5726"/>
                  <a:pt x="14467" y="5671"/>
                  <a:pt x="14610" y="5655"/>
                </a:cubicBezTo>
                <a:cubicBezTo>
                  <a:pt x="14727" y="5642"/>
                  <a:pt x="14840" y="5648"/>
                  <a:pt x="14957" y="5631"/>
                </a:cubicBezTo>
                <a:cubicBezTo>
                  <a:pt x="15072" y="5614"/>
                  <a:pt x="15190" y="5622"/>
                  <a:pt x="15304" y="5606"/>
                </a:cubicBezTo>
                <a:cubicBezTo>
                  <a:pt x="15462" y="5584"/>
                  <a:pt x="15616" y="5560"/>
                  <a:pt x="15776" y="5556"/>
                </a:cubicBezTo>
                <a:cubicBezTo>
                  <a:pt x="15911" y="5552"/>
                  <a:pt x="16039" y="5535"/>
                  <a:pt x="16173" y="5531"/>
                </a:cubicBezTo>
                <a:cubicBezTo>
                  <a:pt x="16391" y="5525"/>
                  <a:pt x="16598" y="5482"/>
                  <a:pt x="16818" y="5482"/>
                </a:cubicBezTo>
                <a:cubicBezTo>
                  <a:pt x="17002" y="5482"/>
                  <a:pt x="17180" y="5504"/>
                  <a:pt x="17363" y="5507"/>
                </a:cubicBezTo>
                <a:cubicBezTo>
                  <a:pt x="17590" y="5511"/>
                  <a:pt x="17832" y="5509"/>
                  <a:pt x="18058" y="5531"/>
                </a:cubicBezTo>
                <a:cubicBezTo>
                  <a:pt x="18181" y="5556"/>
                  <a:pt x="18222" y="5564"/>
                  <a:pt x="18306" y="5556"/>
                </a:cubicBezTo>
              </a:path>
              <a:path w="14016" h="5507">
                <a:moveTo>
                  <a:pt x="6821" y="7293"/>
                </a:moveTo>
                <a:cubicBezTo>
                  <a:pt x="7056" y="7293"/>
                  <a:pt x="7284" y="7272"/>
                  <a:pt x="7516" y="7268"/>
                </a:cubicBezTo>
                <a:cubicBezTo>
                  <a:pt x="7614" y="7266"/>
                  <a:pt x="7696" y="7268"/>
                  <a:pt x="7789" y="7268"/>
                </a:cubicBezTo>
                <a:cubicBezTo>
                  <a:pt x="7910" y="7268"/>
                  <a:pt x="8017" y="7248"/>
                  <a:pt x="8136" y="7243"/>
                </a:cubicBezTo>
                <a:cubicBezTo>
                  <a:pt x="8556" y="7227"/>
                  <a:pt x="8988" y="7283"/>
                  <a:pt x="9401" y="7268"/>
                </a:cubicBezTo>
                <a:cubicBezTo>
                  <a:pt x="9557" y="7262"/>
                  <a:pt x="9713" y="7243"/>
                  <a:pt x="9872" y="7243"/>
                </a:cubicBezTo>
                <a:cubicBezTo>
                  <a:pt x="10074" y="7243"/>
                  <a:pt x="10269" y="7231"/>
                  <a:pt x="10468" y="7218"/>
                </a:cubicBezTo>
                <a:cubicBezTo>
                  <a:pt x="10681" y="7204"/>
                  <a:pt x="10902" y="7204"/>
                  <a:pt x="11112" y="7193"/>
                </a:cubicBezTo>
                <a:cubicBezTo>
                  <a:pt x="11370" y="7179"/>
                  <a:pt x="11627" y="7203"/>
                  <a:pt x="11881" y="7218"/>
                </a:cubicBezTo>
                <a:cubicBezTo>
                  <a:pt x="12323" y="7245"/>
                  <a:pt x="12759" y="7198"/>
                  <a:pt x="13196" y="7169"/>
                </a:cubicBezTo>
                <a:cubicBezTo>
                  <a:pt x="13387" y="7156"/>
                  <a:pt x="13575" y="7144"/>
                  <a:pt x="13767" y="7144"/>
                </a:cubicBezTo>
                <a:cubicBezTo>
                  <a:pt x="13919" y="7144"/>
                  <a:pt x="14062" y="7162"/>
                  <a:pt x="14213" y="7169"/>
                </a:cubicBezTo>
                <a:cubicBezTo>
                  <a:pt x="14302" y="7173"/>
                  <a:pt x="14387" y="7150"/>
                  <a:pt x="14461" y="7144"/>
                </a:cubicBezTo>
                <a:cubicBezTo>
                  <a:pt x="14503" y="7144"/>
                  <a:pt x="14511" y="7144"/>
                  <a:pt x="14536" y="7144"/>
                </a:cubicBezTo>
              </a:path>
              <a:path w="14016" h="5507">
                <a:moveTo>
                  <a:pt x="4415" y="10765"/>
                </a:moveTo>
                <a:cubicBezTo>
                  <a:pt x="4348" y="10782"/>
                  <a:pt x="4336" y="10780"/>
                  <a:pt x="4316" y="10840"/>
                </a:cubicBezTo>
                <a:cubicBezTo>
                  <a:pt x="4296" y="10900"/>
                  <a:pt x="4277" y="10915"/>
                  <a:pt x="4316" y="10939"/>
                </a:cubicBezTo>
                <a:cubicBezTo>
                  <a:pt x="4414" y="10916"/>
                  <a:pt x="4643" y="10790"/>
                  <a:pt x="4465" y="10666"/>
                </a:cubicBezTo>
                <a:cubicBezTo>
                  <a:pt x="4347" y="10584"/>
                  <a:pt x="4249" y="10797"/>
                  <a:pt x="4341" y="10889"/>
                </a:cubicBezTo>
                <a:cubicBezTo>
                  <a:pt x="4513" y="11061"/>
                  <a:pt x="4509" y="10780"/>
                  <a:pt x="4465" y="10691"/>
                </a:cubicBezTo>
                <a:cubicBezTo>
                  <a:pt x="4339" y="10690"/>
                  <a:pt x="4375" y="10695"/>
                  <a:pt x="4366" y="10840"/>
                </a:cubicBezTo>
                <a:cubicBezTo>
                  <a:pt x="4438" y="10811"/>
                  <a:pt x="4456" y="10655"/>
                  <a:pt x="4440" y="10666"/>
                </a:cubicBezTo>
                <a:cubicBezTo>
                  <a:pt x="4393" y="10736"/>
                  <a:pt x="4376" y="10756"/>
                  <a:pt x="4390" y="10815"/>
                </a:cubicBezTo>
              </a:path>
              <a:path w="14016" h="5507">
                <a:moveTo>
                  <a:pt x="12402" y="10691"/>
                </a:moveTo>
                <a:cubicBezTo>
                  <a:pt x="12382" y="10755"/>
                  <a:pt x="12281" y="10807"/>
                  <a:pt x="12278" y="10914"/>
                </a:cubicBezTo>
                <a:cubicBezTo>
                  <a:pt x="12286" y="10939"/>
                  <a:pt x="12295" y="10963"/>
                  <a:pt x="12303" y="10988"/>
                </a:cubicBezTo>
                <a:cubicBezTo>
                  <a:pt x="12387" y="10955"/>
                  <a:pt x="12605" y="10853"/>
                  <a:pt x="12477" y="10716"/>
                </a:cubicBezTo>
                <a:cubicBezTo>
                  <a:pt x="12410" y="10644"/>
                  <a:pt x="12227" y="10862"/>
                  <a:pt x="12278" y="10889"/>
                </a:cubicBezTo>
                <a:cubicBezTo>
                  <a:pt x="12363" y="10889"/>
                  <a:pt x="12395" y="10882"/>
                  <a:pt x="12427" y="10815"/>
                </a:cubicBezTo>
                <a:cubicBezTo>
                  <a:pt x="12452" y="10615"/>
                  <a:pt x="12326" y="10870"/>
                  <a:pt x="12378" y="10914"/>
                </a:cubicBezTo>
                <a:cubicBezTo>
                  <a:pt x="12386" y="10906"/>
                  <a:pt x="12394" y="10897"/>
                  <a:pt x="12402" y="10889"/>
                </a:cubicBezTo>
              </a:path>
              <a:path w="14016" h="5507">
                <a:moveTo>
                  <a:pt x="11881" y="10195"/>
                </a:moveTo>
                <a:cubicBezTo>
                  <a:pt x="11907" y="10250"/>
                  <a:pt x="11985" y="10445"/>
                  <a:pt x="12030" y="10468"/>
                </a:cubicBezTo>
                <a:cubicBezTo>
                  <a:pt x="12030" y="10460"/>
                  <a:pt x="12030" y="10451"/>
                  <a:pt x="12030" y="10443"/>
                </a:cubicBezTo>
                <a:cubicBezTo>
                  <a:pt x="11960" y="10220"/>
                  <a:pt x="11909" y="10010"/>
                  <a:pt x="12055" y="9798"/>
                </a:cubicBezTo>
                <a:cubicBezTo>
                  <a:pt x="12185" y="9609"/>
                  <a:pt x="12230" y="9966"/>
                  <a:pt x="12204" y="10046"/>
                </a:cubicBezTo>
                <a:cubicBezTo>
                  <a:pt x="12196" y="10054"/>
                  <a:pt x="12187" y="10063"/>
                  <a:pt x="12179" y="10071"/>
                </a:cubicBezTo>
                <a:cubicBezTo>
                  <a:pt x="12171" y="10071"/>
                  <a:pt x="12162" y="10071"/>
                  <a:pt x="12154" y="10071"/>
                </a:cubicBezTo>
                <a:cubicBezTo>
                  <a:pt x="12248" y="10047"/>
                  <a:pt x="12358" y="9991"/>
                  <a:pt x="12402" y="10145"/>
                </a:cubicBezTo>
                <a:cubicBezTo>
                  <a:pt x="12446" y="10300"/>
                  <a:pt x="12257" y="10344"/>
                  <a:pt x="12154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55920" y="2732040"/>
            <a:ext cx="2170080" cy="376200"/>
          </a:xfrm>
          <a:custGeom>
            <a:avLst/>
            <a:gdLst/>
            <a:ahLst/>
            <a:rect l="l" t="t" r="r" b="b"/>
            <a:pathLst>
              <a:path w="6029" h="1043">
                <a:moveTo>
                  <a:pt x="6871" y="8161"/>
                </a:moveTo>
                <a:cubicBezTo>
                  <a:pt x="6926" y="8050"/>
                  <a:pt x="7045" y="7974"/>
                  <a:pt x="7169" y="7938"/>
                </a:cubicBezTo>
                <a:cubicBezTo>
                  <a:pt x="7325" y="7893"/>
                  <a:pt x="7485" y="7926"/>
                  <a:pt x="7640" y="7888"/>
                </a:cubicBezTo>
                <a:cubicBezTo>
                  <a:pt x="7714" y="7869"/>
                  <a:pt x="7721" y="7861"/>
                  <a:pt x="7764" y="7863"/>
                </a:cubicBezTo>
              </a:path>
              <a:path w="6029" h="1043">
                <a:moveTo>
                  <a:pt x="7045" y="7739"/>
                </a:moveTo>
                <a:cubicBezTo>
                  <a:pt x="7028" y="7857"/>
                  <a:pt x="6978" y="7995"/>
                  <a:pt x="6896" y="8086"/>
                </a:cubicBezTo>
                <a:cubicBezTo>
                  <a:pt x="6839" y="8124"/>
                  <a:pt x="6814" y="8119"/>
                  <a:pt x="6821" y="8161"/>
                </a:cubicBezTo>
                <a:cubicBezTo>
                  <a:pt x="6913" y="8170"/>
                  <a:pt x="6968" y="8204"/>
                  <a:pt x="7045" y="8235"/>
                </a:cubicBezTo>
                <a:cubicBezTo>
                  <a:pt x="7072" y="8246"/>
                  <a:pt x="7103" y="8277"/>
                  <a:pt x="7144" y="8285"/>
                </a:cubicBezTo>
                <a:cubicBezTo>
                  <a:pt x="7224" y="8301"/>
                  <a:pt x="7164" y="8292"/>
                  <a:pt x="7218" y="8310"/>
                </a:cubicBezTo>
              </a:path>
              <a:path w="6029" h="1043">
                <a:moveTo>
                  <a:pt x="8533" y="7590"/>
                </a:moveTo>
                <a:cubicBezTo>
                  <a:pt x="8533" y="7788"/>
                  <a:pt x="8568" y="7968"/>
                  <a:pt x="8607" y="8161"/>
                </a:cubicBezTo>
                <a:cubicBezTo>
                  <a:pt x="8625" y="8252"/>
                  <a:pt x="8634" y="8259"/>
                  <a:pt x="8632" y="8310"/>
                </a:cubicBezTo>
              </a:path>
              <a:path w="6029" h="1043">
                <a:moveTo>
                  <a:pt x="8334" y="8037"/>
                </a:moveTo>
                <a:cubicBezTo>
                  <a:pt x="8504" y="8031"/>
                  <a:pt x="8662" y="8008"/>
                  <a:pt x="8830" y="7987"/>
                </a:cubicBezTo>
              </a:path>
              <a:path w="6029" h="1043">
                <a:moveTo>
                  <a:pt x="8781" y="8037"/>
                </a:moveTo>
                <a:cubicBezTo>
                  <a:pt x="8799" y="8078"/>
                  <a:pt x="8880" y="8297"/>
                  <a:pt x="8880" y="8260"/>
                </a:cubicBezTo>
                <a:cubicBezTo>
                  <a:pt x="8867" y="8119"/>
                  <a:pt x="8835" y="8005"/>
                  <a:pt x="8979" y="7913"/>
                </a:cubicBezTo>
                <a:cubicBezTo>
                  <a:pt x="9020" y="7896"/>
                  <a:pt x="9062" y="7880"/>
                  <a:pt x="9103" y="7863"/>
                </a:cubicBezTo>
              </a:path>
              <a:path w="6029" h="1043">
                <a:moveTo>
                  <a:pt x="9401" y="8062"/>
                </a:moveTo>
                <a:cubicBezTo>
                  <a:pt x="9392" y="7964"/>
                  <a:pt x="9413" y="7962"/>
                  <a:pt x="9327" y="7938"/>
                </a:cubicBezTo>
                <a:cubicBezTo>
                  <a:pt x="9265" y="7983"/>
                  <a:pt x="8998" y="8191"/>
                  <a:pt x="9178" y="8285"/>
                </a:cubicBezTo>
                <a:cubicBezTo>
                  <a:pt x="9328" y="8363"/>
                  <a:pt x="9351" y="8161"/>
                  <a:pt x="9376" y="8086"/>
                </a:cubicBezTo>
                <a:cubicBezTo>
                  <a:pt x="9376" y="8078"/>
                  <a:pt x="9376" y="8070"/>
                  <a:pt x="9376" y="8062"/>
                </a:cubicBezTo>
                <a:cubicBezTo>
                  <a:pt x="9388" y="8142"/>
                  <a:pt x="9422" y="8313"/>
                  <a:pt x="9550" y="8260"/>
                </a:cubicBezTo>
                <a:cubicBezTo>
                  <a:pt x="9598" y="8240"/>
                  <a:pt x="9609" y="8047"/>
                  <a:pt x="9624" y="8111"/>
                </a:cubicBezTo>
                <a:cubicBezTo>
                  <a:pt x="9641" y="8185"/>
                  <a:pt x="9660" y="8204"/>
                  <a:pt x="9674" y="8260"/>
                </a:cubicBezTo>
                <a:cubicBezTo>
                  <a:pt x="9607" y="8144"/>
                  <a:pt x="9617" y="8080"/>
                  <a:pt x="9699" y="7987"/>
                </a:cubicBezTo>
                <a:cubicBezTo>
                  <a:pt x="9876" y="8026"/>
                  <a:pt x="9966" y="8096"/>
                  <a:pt x="9897" y="8310"/>
                </a:cubicBezTo>
                <a:cubicBezTo>
                  <a:pt x="9862" y="8344"/>
                  <a:pt x="9858" y="8338"/>
                  <a:pt x="9897" y="8260"/>
                </a:cubicBezTo>
              </a:path>
              <a:path w="6029" h="1043">
                <a:moveTo>
                  <a:pt x="9996" y="7987"/>
                </a:moveTo>
                <a:cubicBezTo>
                  <a:pt x="9963" y="8027"/>
                  <a:pt x="9938" y="8064"/>
                  <a:pt x="9922" y="8111"/>
                </a:cubicBezTo>
                <a:cubicBezTo>
                  <a:pt x="10042" y="8125"/>
                  <a:pt x="10097" y="8139"/>
                  <a:pt x="10195" y="8210"/>
                </a:cubicBezTo>
                <a:cubicBezTo>
                  <a:pt x="10091" y="8355"/>
                  <a:pt x="10040" y="8399"/>
                  <a:pt x="9872" y="8334"/>
                </a:cubicBezTo>
              </a:path>
              <a:path w="6029" h="1043">
                <a:moveTo>
                  <a:pt x="10145" y="7938"/>
                </a:moveTo>
                <a:cubicBezTo>
                  <a:pt x="10259" y="8014"/>
                  <a:pt x="10334" y="8168"/>
                  <a:pt x="10418" y="8285"/>
                </a:cubicBezTo>
                <a:cubicBezTo>
                  <a:pt x="10426" y="8293"/>
                  <a:pt x="10435" y="8302"/>
                  <a:pt x="10443" y="8310"/>
                </a:cubicBezTo>
                <a:cubicBezTo>
                  <a:pt x="10443" y="8196"/>
                  <a:pt x="10452" y="8086"/>
                  <a:pt x="10517" y="7987"/>
                </a:cubicBezTo>
                <a:cubicBezTo>
                  <a:pt x="10568" y="7937"/>
                  <a:pt x="10586" y="7921"/>
                  <a:pt x="10641" y="7938"/>
                </a:cubicBezTo>
              </a:path>
              <a:path w="6029" h="1043">
                <a:moveTo>
                  <a:pt x="10716" y="8111"/>
                </a:moveTo>
                <a:cubicBezTo>
                  <a:pt x="10818" y="8129"/>
                  <a:pt x="10909" y="8136"/>
                  <a:pt x="11013" y="8136"/>
                </a:cubicBezTo>
                <a:cubicBezTo>
                  <a:pt x="11013" y="8067"/>
                  <a:pt x="10975" y="7999"/>
                  <a:pt x="10914" y="7962"/>
                </a:cubicBezTo>
                <a:cubicBezTo>
                  <a:pt x="10768" y="7874"/>
                  <a:pt x="10714" y="8045"/>
                  <a:pt x="10716" y="8161"/>
                </a:cubicBezTo>
                <a:cubicBezTo>
                  <a:pt x="10718" y="8258"/>
                  <a:pt x="10787" y="8503"/>
                  <a:pt x="10939" y="8434"/>
                </a:cubicBezTo>
                <a:cubicBezTo>
                  <a:pt x="10964" y="8409"/>
                  <a:pt x="10988" y="8384"/>
                  <a:pt x="11013" y="8359"/>
                </a:cubicBezTo>
              </a:path>
              <a:path w="6029" h="1043">
                <a:moveTo>
                  <a:pt x="11187" y="8086"/>
                </a:moveTo>
                <a:cubicBezTo>
                  <a:pt x="11203" y="8191"/>
                  <a:pt x="11254" y="8263"/>
                  <a:pt x="11286" y="8359"/>
                </a:cubicBezTo>
                <a:cubicBezTo>
                  <a:pt x="11267" y="8243"/>
                  <a:pt x="11251" y="8156"/>
                  <a:pt x="11286" y="8037"/>
                </a:cubicBezTo>
                <a:cubicBezTo>
                  <a:pt x="11323" y="7964"/>
                  <a:pt x="11355" y="7938"/>
                  <a:pt x="11435" y="7938"/>
                </a:cubicBezTo>
              </a:path>
              <a:path w="6029" h="1043">
                <a:moveTo>
                  <a:pt x="11807" y="7987"/>
                </a:moveTo>
                <a:cubicBezTo>
                  <a:pt x="11721" y="8001"/>
                  <a:pt x="11655" y="8036"/>
                  <a:pt x="11584" y="8086"/>
                </a:cubicBezTo>
                <a:cubicBezTo>
                  <a:pt x="11726" y="8086"/>
                  <a:pt x="11786" y="8115"/>
                  <a:pt x="11906" y="8186"/>
                </a:cubicBezTo>
                <a:cubicBezTo>
                  <a:pt x="11821" y="8331"/>
                  <a:pt x="11779" y="8334"/>
                  <a:pt x="11609" y="8334"/>
                </a:cubicBezTo>
              </a:path>
              <a:path w="6029" h="1043">
                <a:moveTo>
                  <a:pt x="12427" y="8136"/>
                </a:moveTo>
                <a:cubicBezTo>
                  <a:pt x="12386" y="8054"/>
                  <a:pt x="12378" y="8047"/>
                  <a:pt x="12303" y="7987"/>
                </a:cubicBezTo>
                <a:cubicBezTo>
                  <a:pt x="12114" y="8104"/>
                  <a:pt x="12094" y="8195"/>
                  <a:pt x="12105" y="8409"/>
                </a:cubicBezTo>
                <a:cubicBezTo>
                  <a:pt x="12278" y="8345"/>
                  <a:pt x="12328" y="8337"/>
                  <a:pt x="12353" y="8136"/>
                </a:cubicBezTo>
                <a:cubicBezTo>
                  <a:pt x="12293" y="8215"/>
                  <a:pt x="12396" y="8274"/>
                  <a:pt x="12452" y="8334"/>
                </a:cubicBezTo>
                <a:cubicBezTo>
                  <a:pt x="12515" y="8400"/>
                  <a:pt x="12481" y="8390"/>
                  <a:pt x="12551" y="8310"/>
                </a:cubicBezTo>
              </a:path>
              <a:path w="6029" h="1043">
                <a:moveTo>
                  <a:pt x="12626" y="7640"/>
                </a:moveTo>
                <a:cubicBezTo>
                  <a:pt x="12690" y="7843"/>
                  <a:pt x="12720" y="8053"/>
                  <a:pt x="12774" y="8260"/>
                </a:cubicBezTo>
                <a:cubicBezTo>
                  <a:pt x="12782" y="8285"/>
                  <a:pt x="12791" y="8309"/>
                  <a:pt x="12799" y="8334"/>
                </a:cubicBezTo>
              </a:path>
              <a:path w="6029" h="1043">
                <a:moveTo>
                  <a:pt x="8682" y="8582"/>
                </a:moveTo>
                <a:cubicBezTo>
                  <a:pt x="8707" y="8590"/>
                  <a:pt x="8768" y="8605"/>
                  <a:pt x="8830" y="8607"/>
                </a:cubicBezTo>
                <a:cubicBezTo>
                  <a:pt x="8912" y="8609"/>
                  <a:pt x="8973" y="8630"/>
                  <a:pt x="9054" y="8632"/>
                </a:cubicBezTo>
                <a:cubicBezTo>
                  <a:pt x="9116" y="8634"/>
                  <a:pt x="9230" y="8609"/>
                  <a:pt x="9252" y="8607"/>
                </a:cubicBezTo>
                <a:cubicBezTo>
                  <a:pt x="9342" y="8599"/>
                  <a:pt x="9437" y="8599"/>
                  <a:pt x="9525" y="8582"/>
                </a:cubicBezTo>
                <a:cubicBezTo>
                  <a:pt x="9612" y="8565"/>
                  <a:pt x="9683" y="8558"/>
                  <a:pt x="9773" y="8558"/>
                </a:cubicBezTo>
                <a:cubicBezTo>
                  <a:pt x="9915" y="8558"/>
                  <a:pt x="10068" y="8571"/>
                  <a:pt x="10195" y="8582"/>
                </a:cubicBezTo>
                <a:cubicBezTo>
                  <a:pt x="10252" y="8587"/>
                  <a:pt x="10301" y="8563"/>
                  <a:pt x="10344" y="8558"/>
                </a:cubicBezTo>
                <a:cubicBezTo>
                  <a:pt x="10675" y="8522"/>
                  <a:pt x="11059" y="8547"/>
                  <a:pt x="11385" y="8582"/>
                </a:cubicBezTo>
                <a:cubicBezTo>
                  <a:pt x="11702" y="8616"/>
                  <a:pt x="12041" y="8579"/>
                  <a:pt x="12353" y="8607"/>
                </a:cubicBezTo>
                <a:cubicBezTo>
                  <a:pt x="12516" y="8621"/>
                  <a:pt x="12685" y="8607"/>
                  <a:pt x="12849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1960" y="3303720"/>
            <a:ext cx="1366920" cy="590400"/>
          </a:xfrm>
          <a:custGeom>
            <a:avLst/>
            <a:gdLst/>
            <a:ahLst/>
            <a:rect l="l" t="t" r="r" b="b"/>
            <a:pathLst>
              <a:path w="3796" h="1638">
                <a:moveTo>
                  <a:pt x="9128" y="9599"/>
                </a:moveTo>
                <a:cubicBezTo>
                  <a:pt x="9150" y="9643"/>
                  <a:pt x="9153" y="9655"/>
                  <a:pt x="9178" y="9674"/>
                </a:cubicBezTo>
                <a:cubicBezTo>
                  <a:pt x="9176" y="9659"/>
                  <a:pt x="9133" y="9452"/>
                  <a:pt x="9079" y="9525"/>
                </a:cubicBezTo>
                <a:cubicBezTo>
                  <a:pt x="8975" y="9666"/>
                  <a:pt x="8836" y="10067"/>
                  <a:pt x="9054" y="10170"/>
                </a:cubicBezTo>
                <a:cubicBezTo>
                  <a:pt x="9198" y="10170"/>
                  <a:pt x="9243" y="10172"/>
                  <a:pt x="9327" y="10120"/>
                </a:cubicBezTo>
              </a:path>
              <a:path w="3796" h="1638">
                <a:moveTo>
                  <a:pt x="9376" y="10046"/>
                </a:moveTo>
                <a:cubicBezTo>
                  <a:pt x="9461" y="10012"/>
                  <a:pt x="9536" y="10028"/>
                  <a:pt x="9550" y="9947"/>
                </a:cubicBezTo>
                <a:cubicBezTo>
                  <a:pt x="9458" y="9854"/>
                  <a:pt x="9333" y="9850"/>
                  <a:pt x="9302" y="10046"/>
                </a:cubicBezTo>
                <a:cubicBezTo>
                  <a:pt x="9260" y="10310"/>
                  <a:pt x="9615" y="10089"/>
                  <a:pt x="9674" y="10046"/>
                </a:cubicBezTo>
              </a:path>
              <a:path w="3796" h="1638">
                <a:moveTo>
                  <a:pt x="9723" y="9947"/>
                </a:moveTo>
                <a:cubicBezTo>
                  <a:pt x="9723" y="10013"/>
                  <a:pt x="9723" y="10046"/>
                  <a:pt x="9723" y="10096"/>
                </a:cubicBezTo>
                <a:cubicBezTo>
                  <a:pt x="9792" y="10140"/>
                  <a:pt x="9698" y="9994"/>
                  <a:pt x="9699" y="9947"/>
                </a:cubicBezTo>
                <a:cubicBezTo>
                  <a:pt x="9707" y="9922"/>
                  <a:pt x="9715" y="9897"/>
                  <a:pt x="9723" y="9872"/>
                </a:cubicBezTo>
                <a:cubicBezTo>
                  <a:pt x="9877" y="9828"/>
                  <a:pt x="9909" y="9958"/>
                  <a:pt x="9947" y="10096"/>
                </a:cubicBezTo>
                <a:cubicBezTo>
                  <a:pt x="9947" y="10120"/>
                  <a:pt x="9947" y="10128"/>
                  <a:pt x="9947" y="10096"/>
                </a:cubicBezTo>
              </a:path>
              <a:path w="3796" h="1638">
                <a:moveTo>
                  <a:pt x="9947" y="9525"/>
                </a:moveTo>
                <a:cubicBezTo>
                  <a:pt x="10034" y="9682"/>
                  <a:pt x="10100" y="9905"/>
                  <a:pt x="10195" y="10046"/>
                </a:cubicBezTo>
                <a:cubicBezTo>
                  <a:pt x="10195" y="10038"/>
                  <a:pt x="10195" y="10029"/>
                  <a:pt x="10195" y="10021"/>
                </a:cubicBezTo>
              </a:path>
              <a:path w="3796" h="1638">
                <a:moveTo>
                  <a:pt x="9922" y="9847"/>
                </a:moveTo>
                <a:cubicBezTo>
                  <a:pt x="10088" y="9841"/>
                  <a:pt x="10251" y="9823"/>
                  <a:pt x="10418" y="9823"/>
                </a:cubicBezTo>
                <a:cubicBezTo>
                  <a:pt x="10482" y="9823"/>
                  <a:pt x="10402" y="9865"/>
                  <a:pt x="10468" y="9823"/>
                </a:cubicBezTo>
                <a:cubicBezTo>
                  <a:pt x="10403" y="9742"/>
                  <a:pt x="10319" y="9645"/>
                  <a:pt x="10269" y="9798"/>
                </a:cubicBezTo>
                <a:cubicBezTo>
                  <a:pt x="10221" y="9945"/>
                  <a:pt x="10309" y="10166"/>
                  <a:pt x="10492" y="10021"/>
                </a:cubicBezTo>
                <a:cubicBezTo>
                  <a:pt x="10572" y="9957"/>
                  <a:pt x="10676" y="9679"/>
                  <a:pt x="10691" y="9897"/>
                </a:cubicBezTo>
                <a:cubicBezTo>
                  <a:pt x="10691" y="9905"/>
                  <a:pt x="10691" y="9914"/>
                  <a:pt x="10691" y="9922"/>
                </a:cubicBezTo>
                <a:cubicBezTo>
                  <a:pt x="10691" y="9807"/>
                  <a:pt x="10687" y="9730"/>
                  <a:pt x="10740" y="9624"/>
                </a:cubicBezTo>
                <a:cubicBezTo>
                  <a:pt x="10761" y="9582"/>
                  <a:pt x="10827" y="9593"/>
                  <a:pt x="10864" y="9575"/>
                </a:cubicBezTo>
              </a:path>
              <a:path w="3796" h="1638">
                <a:moveTo>
                  <a:pt x="11261" y="9203"/>
                </a:moveTo>
                <a:cubicBezTo>
                  <a:pt x="11154" y="9265"/>
                  <a:pt x="11140" y="9281"/>
                  <a:pt x="11112" y="9401"/>
                </a:cubicBezTo>
                <a:cubicBezTo>
                  <a:pt x="11198" y="9428"/>
                  <a:pt x="11534" y="9474"/>
                  <a:pt x="11435" y="9649"/>
                </a:cubicBezTo>
                <a:cubicBezTo>
                  <a:pt x="11363" y="9775"/>
                  <a:pt x="11246" y="9736"/>
                  <a:pt x="11162" y="9699"/>
                </a:cubicBezTo>
              </a:path>
              <a:path w="3796" h="1638">
                <a:moveTo>
                  <a:pt x="11584" y="9178"/>
                </a:moveTo>
                <a:cubicBezTo>
                  <a:pt x="11647" y="9325"/>
                  <a:pt x="11904" y="9688"/>
                  <a:pt x="11757" y="9624"/>
                </a:cubicBezTo>
                <a:cubicBezTo>
                  <a:pt x="11741" y="9608"/>
                  <a:pt x="11724" y="9591"/>
                  <a:pt x="11708" y="9575"/>
                </a:cubicBezTo>
              </a:path>
              <a:path w="3796" h="1638">
                <a:moveTo>
                  <a:pt x="11460" y="9451"/>
                </a:moveTo>
                <a:cubicBezTo>
                  <a:pt x="11560" y="9403"/>
                  <a:pt x="11787" y="9256"/>
                  <a:pt x="11857" y="9302"/>
                </a:cubicBezTo>
              </a:path>
              <a:path w="3796" h="1638">
                <a:moveTo>
                  <a:pt x="9699" y="10418"/>
                </a:moveTo>
                <a:cubicBezTo>
                  <a:pt x="9816" y="10386"/>
                  <a:pt x="9919" y="10326"/>
                  <a:pt x="10046" y="10294"/>
                </a:cubicBezTo>
                <a:cubicBezTo>
                  <a:pt x="10451" y="10192"/>
                  <a:pt x="10857" y="10099"/>
                  <a:pt x="11261" y="9996"/>
                </a:cubicBezTo>
                <a:cubicBezTo>
                  <a:pt x="11366" y="9969"/>
                  <a:pt x="11483" y="9957"/>
                  <a:pt x="11584" y="9922"/>
                </a:cubicBezTo>
                <a:cubicBezTo>
                  <a:pt x="11651" y="9898"/>
                  <a:pt x="11711" y="9879"/>
                  <a:pt x="11782" y="9872"/>
                </a:cubicBezTo>
              </a:path>
              <a:path w="3796" h="1638">
                <a:moveTo>
                  <a:pt x="8062" y="10641"/>
                </a:moveTo>
                <a:cubicBezTo>
                  <a:pt x="8135" y="10641"/>
                  <a:pt x="8214" y="10629"/>
                  <a:pt x="8285" y="10616"/>
                </a:cubicBezTo>
                <a:cubicBezTo>
                  <a:pt x="8367" y="10596"/>
                  <a:pt x="8383" y="10588"/>
                  <a:pt x="8434" y="10592"/>
                </a:cubicBezTo>
              </a:path>
              <a:path w="3796" h="1638">
                <a:moveTo>
                  <a:pt x="8062" y="10815"/>
                </a:moveTo>
                <a:cubicBezTo>
                  <a:pt x="8197" y="10803"/>
                  <a:pt x="8326" y="10767"/>
                  <a:pt x="8458" y="10740"/>
                </a:cubicBezTo>
                <a:cubicBezTo>
                  <a:pt x="8466" y="10740"/>
                  <a:pt x="8475" y="10740"/>
                  <a:pt x="8483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57280" y="3000240"/>
            <a:ext cx="295560" cy="268560"/>
          </a:xfrm>
          <a:custGeom>
            <a:avLst/>
            <a:gdLst/>
            <a:ahLst/>
            <a:rect l="l" t="t" r="r" b="b"/>
            <a:pathLst>
              <a:path w="820" h="746">
                <a:moveTo>
                  <a:pt x="6871" y="8905"/>
                </a:moveTo>
                <a:cubicBezTo>
                  <a:pt x="6815" y="8849"/>
                  <a:pt x="6752" y="8820"/>
                  <a:pt x="6672" y="8806"/>
                </a:cubicBezTo>
                <a:cubicBezTo>
                  <a:pt x="6552" y="8785"/>
                  <a:pt x="6629" y="8956"/>
                  <a:pt x="6648" y="9004"/>
                </a:cubicBezTo>
                <a:cubicBezTo>
                  <a:pt x="6656" y="9021"/>
                  <a:pt x="6664" y="9037"/>
                  <a:pt x="6672" y="9054"/>
                </a:cubicBezTo>
                <a:cubicBezTo>
                  <a:pt x="6710" y="8923"/>
                  <a:pt x="6747" y="8916"/>
                  <a:pt x="6672" y="8806"/>
                </a:cubicBezTo>
                <a:cubicBezTo>
                  <a:pt x="6600" y="8827"/>
                  <a:pt x="6472" y="8948"/>
                  <a:pt x="6573" y="9054"/>
                </a:cubicBezTo>
                <a:cubicBezTo>
                  <a:pt x="6665" y="9151"/>
                  <a:pt x="6700" y="9003"/>
                  <a:pt x="6722" y="8954"/>
                </a:cubicBezTo>
                <a:cubicBezTo>
                  <a:pt x="6661" y="8870"/>
                  <a:pt x="6601" y="8852"/>
                  <a:pt x="6623" y="9004"/>
                </a:cubicBezTo>
                <a:cubicBezTo>
                  <a:pt x="6647" y="9174"/>
                  <a:pt x="6743" y="9030"/>
                  <a:pt x="6722" y="8930"/>
                </a:cubicBezTo>
                <a:cubicBezTo>
                  <a:pt x="6704" y="8846"/>
                  <a:pt x="6617" y="8998"/>
                  <a:pt x="6697" y="9029"/>
                </a:cubicBezTo>
              </a:path>
              <a:path w="820" h="746">
                <a:moveTo>
                  <a:pt x="7020" y="8458"/>
                </a:moveTo>
                <a:cubicBezTo>
                  <a:pt x="7083" y="8563"/>
                  <a:pt x="7072" y="8684"/>
                  <a:pt x="7094" y="8806"/>
                </a:cubicBezTo>
                <a:cubicBezTo>
                  <a:pt x="7123" y="8962"/>
                  <a:pt x="7233" y="8840"/>
                  <a:pt x="7317" y="8806"/>
                </a:cubicBezTo>
                <a:cubicBezTo>
                  <a:pt x="7360" y="8788"/>
                  <a:pt x="7351" y="8829"/>
                  <a:pt x="7367" y="8781"/>
                </a:cubicBezTo>
              </a:path>
              <a:path w="820" h="746">
                <a:moveTo>
                  <a:pt x="7069" y="8756"/>
                </a:moveTo>
                <a:cubicBezTo>
                  <a:pt x="7167" y="8723"/>
                  <a:pt x="7194" y="8670"/>
                  <a:pt x="7243" y="8582"/>
                </a:cubicBezTo>
              </a:path>
              <a:path w="820" h="746">
                <a:moveTo>
                  <a:pt x="7069" y="8508"/>
                </a:moveTo>
                <a:cubicBezTo>
                  <a:pt x="7136" y="8449"/>
                  <a:pt x="7205" y="8397"/>
                  <a:pt x="7268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3544920"/>
            <a:ext cx="366840" cy="330120"/>
          </a:xfrm>
          <a:custGeom>
            <a:avLst/>
            <a:gdLst/>
            <a:ahLst/>
            <a:rect l="l" t="t" r="r" b="b"/>
            <a:pathLst>
              <a:path w="1018" h="919">
                <a:moveTo>
                  <a:pt x="6375" y="10418"/>
                </a:moveTo>
                <a:cubicBezTo>
                  <a:pt x="6382" y="10484"/>
                  <a:pt x="6387" y="10530"/>
                  <a:pt x="6424" y="10592"/>
                </a:cubicBezTo>
                <a:cubicBezTo>
                  <a:pt x="6450" y="10636"/>
                  <a:pt x="6519" y="10667"/>
                  <a:pt x="6548" y="10691"/>
                </a:cubicBezTo>
                <a:cubicBezTo>
                  <a:pt x="6631" y="10761"/>
                  <a:pt x="6662" y="10765"/>
                  <a:pt x="6772" y="10765"/>
                </a:cubicBezTo>
                <a:cubicBezTo>
                  <a:pt x="6872" y="10765"/>
                  <a:pt x="6935" y="10737"/>
                  <a:pt x="7020" y="10716"/>
                </a:cubicBezTo>
                <a:cubicBezTo>
                  <a:pt x="7091" y="10698"/>
                  <a:pt x="7130" y="10679"/>
                  <a:pt x="7193" y="10641"/>
                </a:cubicBezTo>
                <a:cubicBezTo>
                  <a:pt x="7297" y="10578"/>
                  <a:pt x="7298" y="10562"/>
                  <a:pt x="7342" y="10468"/>
                </a:cubicBezTo>
                <a:cubicBezTo>
                  <a:pt x="7364" y="10420"/>
                  <a:pt x="7381" y="10384"/>
                  <a:pt x="7367" y="10319"/>
                </a:cubicBezTo>
                <a:cubicBezTo>
                  <a:pt x="7361" y="10291"/>
                  <a:pt x="7329" y="10224"/>
                  <a:pt x="7317" y="10195"/>
                </a:cubicBezTo>
                <a:cubicBezTo>
                  <a:pt x="7299" y="10152"/>
                  <a:pt x="7280" y="10078"/>
                  <a:pt x="7243" y="10046"/>
                </a:cubicBezTo>
                <a:cubicBezTo>
                  <a:pt x="7192" y="10002"/>
                  <a:pt x="7080" y="9949"/>
                  <a:pt x="7020" y="9922"/>
                </a:cubicBezTo>
                <a:cubicBezTo>
                  <a:pt x="6956" y="9893"/>
                  <a:pt x="6864" y="9856"/>
                  <a:pt x="6796" y="9847"/>
                </a:cubicBezTo>
                <a:cubicBezTo>
                  <a:pt x="6727" y="9838"/>
                  <a:pt x="6677" y="9861"/>
                  <a:pt x="6623" y="9872"/>
                </a:cubicBezTo>
                <a:cubicBezTo>
                  <a:pt x="6567" y="9883"/>
                  <a:pt x="6498" y="9886"/>
                  <a:pt x="6449" y="9922"/>
                </a:cubicBezTo>
                <a:cubicBezTo>
                  <a:pt x="6416" y="9946"/>
                  <a:pt x="6396" y="10003"/>
                  <a:pt x="6375" y="10046"/>
                </a:cubicBezTo>
                <a:cubicBezTo>
                  <a:pt x="6347" y="10102"/>
                  <a:pt x="6335" y="10180"/>
                  <a:pt x="6350" y="10244"/>
                </a:cubicBezTo>
                <a:cubicBezTo>
                  <a:pt x="6357" y="10276"/>
                  <a:pt x="6364" y="10312"/>
                  <a:pt x="6375" y="10344"/>
                </a:cubicBezTo>
                <a:cubicBezTo>
                  <a:pt x="6387" y="10379"/>
                  <a:pt x="6418" y="10437"/>
                  <a:pt x="6424" y="10468"/>
                </a:cubicBezTo>
                <a:cubicBezTo>
                  <a:pt x="6437" y="10536"/>
                  <a:pt x="6413" y="10582"/>
                  <a:pt x="6449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36920" y="4214880"/>
            <a:ext cx="285480" cy="54000"/>
          </a:xfrm>
          <a:custGeom>
            <a:avLst/>
            <a:gdLst/>
            <a:ahLst/>
            <a:rect l="l" t="t" r="r" b="b"/>
            <a:pathLst>
              <a:path w="794" h="150">
                <a:moveTo>
                  <a:pt x="7094" y="11733"/>
                </a:moveTo>
                <a:cubicBezTo>
                  <a:pt x="7052" y="11747"/>
                  <a:pt x="7054" y="11802"/>
                  <a:pt x="7045" y="11857"/>
                </a:cubicBezTo>
                <a:cubicBezTo>
                  <a:pt x="7175" y="11757"/>
                  <a:pt x="7032" y="11784"/>
                  <a:pt x="7144" y="11857"/>
                </a:cubicBezTo>
                <a:cubicBezTo>
                  <a:pt x="7197" y="11891"/>
                  <a:pt x="7230" y="11782"/>
                  <a:pt x="7293" y="11782"/>
                </a:cubicBezTo>
                <a:cubicBezTo>
                  <a:pt x="7334" y="11782"/>
                  <a:pt x="7391" y="11788"/>
                  <a:pt x="7441" y="11782"/>
                </a:cubicBezTo>
                <a:cubicBezTo>
                  <a:pt x="7501" y="11775"/>
                  <a:pt x="7514" y="11781"/>
                  <a:pt x="7590" y="11757"/>
                </a:cubicBezTo>
                <a:cubicBezTo>
                  <a:pt x="7618" y="11748"/>
                  <a:pt x="7652" y="11782"/>
                  <a:pt x="7689" y="11782"/>
                </a:cubicBezTo>
                <a:cubicBezTo>
                  <a:pt x="7742" y="11782"/>
                  <a:pt x="7770" y="11780"/>
                  <a:pt x="7813" y="11807"/>
                </a:cubicBezTo>
              </a:path>
              <a:path w="794" h="150">
                <a:moveTo>
                  <a:pt x="7069" y="11807"/>
                </a:moveTo>
                <a:cubicBezTo>
                  <a:pt x="7069" y="11832"/>
                  <a:pt x="7069" y="11840"/>
                  <a:pt x="7069" y="11857"/>
                </a:cubicBezTo>
                <a:cubicBezTo>
                  <a:pt x="7138" y="11840"/>
                  <a:pt x="7172" y="11763"/>
                  <a:pt x="7243" y="11733"/>
                </a:cubicBezTo>
                <a:cubicBezTo>
                  <a:pt x="7303" y="11708"/>
                  <a:pt x="7305" y="11852"/>
                  <a:pt x="7417" y="11807"/>
                </a:cubicBezTo>
                <a:cubicBezTo>
                  <a:pt x="7486" y="11761"/>
                  <a:pt x="7506" y="11748"/>
                  <a:pt x="7541" y="11708"/>
                </a:cubicBezTo>
                <a:cubicBezTo>
                  <a:pt x="7581" y="11749"/>
                  <a:pt x="7582" y="11791"/>
                  <a:pt x="7640" y="11782"/>
                </a:cubicBezTo>
                <a:cubicBezTo>
                  <a:pt x="7694" y="11774"/>
                  <a:pt x="7790" y="11734"/>
                  <a:pt x="7813" y="11782"/>
                </a:cubicBezTo>
                <a:cubicBezTo>
                  <a:pt x="7813" y="11807"/>
                  <a:pt x="7813" y="11815"/>
                  <a:pt x="7838" y="118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51120" y="4680000"/>
            <a:ext cx="623880" cy="428400"/>
          </a:xfrm>
          <a:custGeom>
            <a:avLst/>
            <a:gdLst/>
            <a:ahLst/>
            <a:rect l="l" t="t" r="r" b="b"/>
            <a:pathLst>
              <a:path w="1737" h="1191">
                <a:moveTo>
                  <a:pt x="8434" y="13891"/>
                </a:moveTo>
                <a:cubicBezTo>
                  <a:pt x="8454" y="13850"/>
                  <a:pt x="8475" y="13951"/>
                  <a:pt x="8508" y="13990"/>
                </a:cubicBezTo>
                <a:cubicBezTo>
                  <a:pt x="8615" y="14116"/>
                  <a:pt x="8714" y="14170"/>
                  <a:pt x="8880" y="14188"/>
                </a:cubicBezTo>
                <a:cubicBezTo>
                  <a:pt x="9038" y="14205"/>
                  <a:pt x="9099" y="14126"/>
                  <a:pt x="9227" y="14064"/>
                </a:cubicBezTo>
                <a:cubicBezTo>
                  <a:pt x="9337" y="14011"/>
                  <a:pt x="9371" y="13994"/>
                  <a:pt x="9376" y="13866"/>
                </a:cubicBezTo>
                <a:cubicBezTo>
                  <a:pt x="9381" y="13742"/>
                  <a:pt x="9297" y="13691"/>
                  <a:pt x="9203" y="13618"/>
                </a:cubicBezTo>
                <a:cubicBezTo>
                  <a:pt x="9105" y="13541"/>
                  <a:pt x="9002" y="13530"/>
                  <a:pt x="8880" y="13519"/>
                </a:cubicBezTo>
                <a:cubicBezTo>
                  <a:pt x="8806" y="13512"/>
                  <a:pt x="8690" y="13507"/>
                  <a:pt x="8632" y="13568"/>
                </a:cubicBezTo>
                <a:cubicBezTo>
                  <a:pt x="8553" y="13652"/>
                  <a:pt x="8478" y="13796"/>
                  <a:pt x="8508" y="13915"/>
                </a:cubicBezTo>
                <a:cubicBezTo>
                  <a:pt x="8548" y="14075"/>
                  <a:pt x="8669" y="14130"/>
                  <a:pt x="8806" y="14188"/>
                </a:cubicBezTo>
              </a:path>
              <a:path w="1737" h="1191">
                <a:moveTo>
                  <a:pt x="7640" y="13767"/>
                </a:moveTo>
                <a:cubicBezTo>
                  <a:pt x="7662" y="13805"/>
                  <a:pt x="7680" y="13829"/>
                  <a:pt x="7689" y="13866"/>
                </a:cubicBezTo>
                <a:cubicBezTo>
                  <a:pt x="7689" y="13786"/>
                  <a:pt x="7578" y="13640"/>
                  <a:pt x="7640" y="13568"/>
                </a:cubicBezTo>
                <a:cubicBezTo>
                  <a:pt x="7681" y="13520"/>
                  <a:pt x="7826" y="13704"/>
                  <a:pt x="7838" y="13692"/>
                </a:cubicBezTo>
                <a:cubicBezTo>
                  <a:pt x="7793" y="13613"/>
                  <a:pt x="7795" y="13562"/>
                  <a:pt x="7789" y="13469"/>
                </a:cubicBezTo>
                <a:cubicBezTo>
                  <a:pt x="7887" y="13469"/>
                  <a:pt x="7956" y="13673"/>
                  <a:pt x="8012" y="13593"/>
                </a:cubicBezTo>
                <a:cubicBezTo>
                  <a:pt x="8012" y="13576"/>
                  <a:pt x="8012" y="13560"/>
                  <a:pt x="8012" y="13543"/>
                </a:cubicBezTo>
              </a:path>
              <a:path w="1737" h="1191">
                <a:moveTo>
                  <a:pt x="8111" y="13271"/>
                </a:moveTo>
                <a:cubicBezTo>
                  <a:pt x="8102" y="13313"/>
                  <a:pt x="8047" y="13603"/>
                  <a:pt x="8161" y="13494"/>
                </a:cubicBezTo>
                <a:cubicBezTo>
                  <a:pt x="8207" y="13423"/>
                  <a:pt x="8223" y="13404"/>
                  <a:pt x="8210" y="13345"/>
                </a:cubicBezTo>
                <a:cubicBezTo>
                  <a:pt x="8237" y="13491"/>
                  <a:pt x="8285" y="13493"/>
                  <a:pt x="8359" y="13370"/>
                </a:cubicBezTo>
              </a:path>
              <a:path w="1737" h="1191">
                <a:moveTo>
                  <a:pt x="8310" y="13097"/>
                </a:moveTo>
                <a:cubicBezTo>
                  <a:pt x="8337" y="13198"/>
                  <a:pt x="8396" y="13333"/>
                  <a:pt x="8458" y="13345"/>
                </a:cubicBezTo>
              </a:path>
              <a:path w="1737" h="1191">
                <a:moveTo>
                  <a:pt x="8409" y="12998"/>
                </a:moveTo>
                <a:cubicBezTo>
                  <a:pt x="8491" y="13107"/>
                  <a:pt x="8537" y="13232"/>
                  <a:pt x="8607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68760" y="5322960"/>
            <a:ext cx="536400" cy="419040"/>
          </a:xfrm>
          <a:custGeom>
            <a:avLst/>
            <a:gdLst/>
            <a:ahLst/>
            <a:rect l="l" t="t" r="r" b="b"/>
            <a:pathLst>
              <a:path w="1490" h="1166">
                <a:moveTo>
                  <a:pt x="7863" y="15081"/>
                </a:moveTo>
                <a:cubicBezTo>
                  <a:pt x="7715" y="15006"/>
                  <a:pt x="7676" y="15150"/>
                  <a:pt x="7689" y="15304"/>
                </a:cubicBezTo>
                <a:cubicBezTo>
                  <a:pt x="7706" y="15515"/>
                  <a:pt x="7969" y="15684"/>
                  <a:pt x="8037" y="15404"/>
                </a:cubicBezTo>
                <a:cubicBezTo>
                  <a:pt x="8029" y="15379"/>
                  <a:pt x="8020" y="15354"/>
                  <a:pt x="8012" y="15329"/>
                </a:cubicBezTo>
                <a:cubicBezTo>
                  <a:pt x="7915" y="15358"/>
                  <a:pt x="7785" y="15417"/>
                  <a:pt x="7888" y="15478"/>
                </a:cubicBezTo>
              </a:path>
              <a:path w="1490" h="1166">
                <a:moveTo>
                  <a:pt x="8136" y="15180"/>
                </a:moveTo>
                <a:cubicBezTo>
                  <a:pt x="8120" y="15299"/>
                  <a:pt x="8091" y="15420"/>
                  <a:pt x="8260" y="15354"/>
                </a:cubicBezTo>
                <a:cubicBezTo>
                  <a:pt x="8361" y="15314"/>
                  <a:pt x="8231" y="15255"/>
                  <a:pt x="8186" y="15255"/>
                </a:cubicBezTo>
                <a:cubicBezTo>
                  <a:pt x="8151" y="15255"/>
                  <a:pt x="8152" y="15250"/>
                  <a:pt x="8210" y="15230"/>
                </a:cubicBezTo>
              </a:path>
              <a:path w="1490" h="1166">
                <a:moveTo>
                  <a:pt x="8434" y="15056"/>
                </a:moveTo>
                <a:cubicBezTo>
                  <a:pt x="8415" y="15151"/>
                  <a:pt x="8390" y="15376"/>
                  <a:pt x="8558" y="15230"/>
                </a:cubicBezTo>
                <a:cubicBezTo>
                  <a:pt x="8683" y="15122"/>
                  <a:pt x="8577" y="15085"/>
                  <a:pt x="8483" y="15106"/>
                </a:cubicBezTo>
              </a:path>
              <a:path w="1490" h="1166">
                <a:moveTo>
                  <a:pt x="8806" y="14908"/>
                </a:moveTo>
                <a:cubicBezTo>
                  <a:pt x="8758" y="14924"/>
                  <a:pt x="8568" y="15075"/>
                  <a:pt x="8731" y="15106"/>
                </a:cubicBezTo>
                <a:cubicBezTo>
                  <a:pt x="8806" y="15081"/>
                  <a:pt x="8830" y="15073"/>
                  <a:pt x="8830" y="15007"/>
                </a:cubicBezTo>
              </a:path>
              <a:path w="1490" h="1166">
                <a:moveTo>
                  <a:pt x="8682" y="14784"/>
                </a:moveTo>
                <a:cubicBezTo>
                  <a:pt x="8770" y="14911"/>
                  <a:pt x="8809" y="14957"/>
                  <a:pt x="8830" y="15106"/>
                </a:cubicBezTo>
              </a:path>
              <a:path w="1490" h="1166">
                <a:moveTo>
                  <a:pt x="8260" y="15751"/>
                </a:moveTo>
                <a:cubicBezTo>
                  <a:pt x="8271" y="15779"/>
                  <a:pt x="8347" y="16037"/>
                  <a:pt x="8409" y="15925"/>
                </a:cubicBezTo>
                <a:cubicBezTo>
                  <a:pt x="8434" y="15826"/>
                  <a:pt x="8442" y="15794"/>
                  <a:pt x="8434" y="15726"/>
                </a:cubicBezTo>
                <a:cubicBezTo>
                  <a:pt x="8434" y="15795"/>
                  <a:pt x="8483" y="15841"/>
                  <a:pt x="8558" y="15825"/>
                </a:cubicBezTo>
                <a:cubicBezTo>
                  <a:pt x="8634" y="15809"/>
                  <a:pt x="8585" y="15694"/>
                  <a:pt x="8533" y="15677"/>
                </a:cubicBezTo>
                <a:cubicBezTo>
                  <a:pt x="8525" y="15677"/>
                  <a:pt x="8516" y="15677"/>
                  <a:pt x="8508" y="15677"/>
                </a:cubicBezTo>
              </a:path>
              <a:path w="1490" h="1166">
                <a:moveTo>
                  <a:pt x="8731" y="15627"/>
                </a:moveTo>
                <a:cubicBezTo>
                  <a:pt x="8771" y="15686"/>
                  <a:pt x="8775" y="15698"/>
                  <a:pt x="8806" y="15726"/>
                </a:cubicBezTo>
                <a:cubicBezTo>
                  <a:pt x="8806" y="15647"/>
                  <a:pt x="8738" y="15617"/>
                  <a:pt x="8706" y="15553"/>
                </a:cubicBezTo>
                <a:cubicBezTo>
                  <a:pt x="8694" y="15528"/>
                  <a:pt x="8780" y="15431"/>
                  <a:pt x="8781" y="15429"/>
                </a:cubicBezTo>
              </a:path>
              <a:path w="1490" h="1166">
                <a:moveTo>
                  <a:pt x="8830" y="15429"/>
                </a:moveTo>
                <a:cubicBezTo>
                  <a:pt x="8889" y="15502"/>
                  <a:pt x="8925" y="15563"/>
                  <a:pt x="9004" y="15602"/>
                </a:cubicBezTo>
              </a:path>
              <a:path w="1490" h="1166">
                <a:moveTo>
                  <a:pt x="9004" y="15602"/>
                </a:moveTo>
                <a:lnTo>
                  <a:pt x="9004" y="15602"/>
                </a:lnTo>
              </a:path>
              <a:path w="1490" h="1166">
                <a:moveTo>
                  <a:pt x="8979" y="15329"/>
                </a:moveTo>
                <a:cubicBezTo>
                  <a:pt x="9046" y="15412"/>
                  <a:pt x="9117" y="15491"/>
                  <a:pt x="9178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7760" y="3473280"/>
            <a:ext cx="161640" cy="241560"/>
          </a:xfrm>
          <a:custGeom>
            <a:avLst/>
            <a:gdLst/>
            <a:ahLst/>
            <a:rect l="l" t="t" r="r" b="b"/>
            <a:pathLst>
              <a:path w="447" h="671">
                <a:moveTo>
                  <a:pt x="4217" y="9872"/>
                </a:moveTo>
                <a:cubicBezTo>
                  <a:pt x="4242" y="9999"/>
                  <a:pt x="4293" y="10118"/>
                  <a:pt x="4341" y="10244"/>
                </a:cubicBezTo>
                <a:cubicBezTo>
                  <a:pt x="4405" y="10414"/>
                  <a:pt x="4280" y="10050"/>
                  <a:pt x="4242" y="9872"/>
                </a:cubicBezTo>
                <a:cubicBezTo>
                  <a:pt x="4221" y="9747"/>
                  <a:pt x="4205" y="9720"/>
                  <a:pt x="4242" y="9649"/>
                </a:cubicBezTo>
                <a:cubicBezTo>
                  <a:pt x="4443" y="9716"/>
                  <a:pt x="4560" y="9867"/>
                  <a:pt x="4638" y="10071"/>
                </a:cubicBezTo>
                <a:cubicBezTo>
                  <a:pt x="4669" y="10153"/>
                  <a:pt x="4691" y="10202"/>
                  <a:pt x="4638" y="10220"/>
                </a:cubicBezTo>
              </a:path>
              <a:path w="447" h="671">
                <a:moveTo>
                  <a:pt x="4266" y="10145"/>
                </a:moveTo>
                <a:cubicBezTo>
                  <a:pt x="4376" y="10084"/>
                  <a:pt x="4475" y="10022"/>
                  <a:pt x="4589" y="99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57240" y="3276720"/>
            <a:ext cx="473040" cy="322200"/>
          </a:xfrm>
          <a:custGeom>
            <a:avLst/>
            <a:gdLst/>
            <a:ahLst/>
            <a:rect l="l" t="t" r="r" b="b"/>
            <a:pathLst>
              <a:path w="1316" h="894">
                <a:moveTo>
                  <a:pt x="5358" y="9500"/>
                </a:moveTo>
                <a:cubicBezTo>
                  <a:pt x="5274" y="9479"/>
                  <a:pt x="5240" y="9429"/>
                  <a:pt x="5184" y="9575"/>
                </a:cubicBezTo>
                <a:cubicBezTo>
                  <a:pt x="5131" y="9714"/>
                  <a:pt x="5187" y="9981"/>
                  <a:pt x="5358" y="9996"/>
                </a:cubicBezTo>
                <a:cubicBezTo>
                  <a:pt x="5490" y="10008"/>
                  <a:pt x="5561" y="9863"/>
                  <a:pt x="5531" y="9773"/>
                </a:cubicBezTo>
                <a:cubicBezTo>
                  <a:pt x="5456" y="9792"/>
                  <a:pt x="5299" y="9852"/>
                  <a:pt x="5432" y="9897"/>
                </a:cubicBezTo>
              </a:path>
              <a:path w="1316" h="894">
                <a:moveTo>
                  <a:pt x="5606" y="9624"/>
                </a:moveTo>
                <a:cubicBezTo>
                  <a:pt x="5643" y="9665"/>
                  <a:pt x="5736" y="9810"/>
                  <a:pt x="5755" y="9773"/>
                </a:cubicBezTo>
              </a:path>
              <a:path w="1316" h="894">
                <a:moveTo>
                  <a:pt x="5581" y="9500"/>
                </a:moveTo>
                <a:lnTo>
                  <a:pt x="5581" y="9500"/>
                </a:lnTo>
                <a:lnTo>
                  <a:pt x="5581" y="9500"/>
                </a:lnTo>
              </a:path>
              <a:path w="1316" h="894">
                <a:moveTo>
                  <a:pt x="5581" y="9500"/>
                </a:moveTo>
                <a:lnTo>
                  <a:pt x="5581" y="9500"/>
                </a:lnTo>
              </a:path>
              <a:path w="1316" h="894">
                <a:moveTo>
                  <a:pt x="5953" y="9426"/>
                </a:moveTo>
                <a:cubicBezTo>
                  <a:pt x="5868" y="9481"/>
                  <a:pt x="5733" y="9660"/>
                  <a:pt x="5928" y="9723"/>
                </a:cubicBezTo>
                <a:cubicBezTo>
                  <a:pt x="6055" y="9764"/>
                  <a:pt x="6032" y="9598"/>
                  <a:pt x="6028" y="9550"/>
                </a:cubicBezTo>
                <a:cubicBezTo>
                  <a:pt x="6092" y="9679"/>
                  <a:pt x="6142" y="9697"/>
                  <a:pt x="6176" y="9525"/>
                </a:cubicBezTo>
                <a:cubicBezTo>
                  <a:pt x="6190" y="9453"/>
                  <a:pt x="6175" y="9488"/>
                  <a:pt x="6201" y="9575"/>
                </a:cubicBezTo>
                <a:cubicBezTo>
                  <a:pt x="6257" y="9556"/>
                  <a:pt x="6145" y="9408"/>
                  <a:pt x="6201" y="9426"/>
                </a:cubicBezTo>
                <a:cubicBezTo>
                  <a:pt x="6345" y="9471"/>
                  <a:pt x="6237" y="9658"/>
                  <a:pt x="6325" y="9376"/>
                </a:cubicBezTo>
              </a:path>
              <a:path w="1316" h="894">
                <a:moveTo>
                  <a:pt x="6226" y="9103"/>
                </a:moveTo>
                <a:cubicBezTo>
                  <a:pt x="6300" y="9214"/>
                  <a:pt x="6371" y="9358"/>
                  <a:pt x="6474" y="9426"/>
                </a:cubicBezTo>
              </a:path>
              <a:path w="1316" h="894">
                <a:moveTo>
                  <a:pt x="6251" y="9227"/>
                </a:moveTo>
                <a:cubicBezTo>
                  <a:pt x="6354" y="9166"/>
                  <a:pt x="6378" y="9159"/>
                  <a:pt x="6424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4760" y="4840200"/>
            <a:ext cx="161640" cy="177840"/>
          </a:xfrm>
          <a:custGeom>
            <a:avLst/>
            <a:gdLst/>
            <a:ahLst/>
            <a:rect l="l" t="t" r="r" b="b"/>
            <a:pathLst>
              <a:path w="448" h="497">
                <a:moveTo>
                  <a:pt x="4465" y="13519"/>
                </a:moveTo>
                <a:cubicBezTo>
                  <a:pt x="4536" y="13495"/>
                  <a:pt x="4427" y="13456"/>
                  <a:pt x="4390" y="13444"/>
                </a:cubicBezTo>
                <a:cubicBezTo>
                  <a:pt x="4227" y="13393"/>
                  <a:pt x="4332" y="13773"/>
                  <a:pt x="4341" y="13791"/>
                </a:cubicBezTo>
                <a:cubicBezTo>
                  <a:pt x="4426" y="13964"/>
                  <a:pt x="4594" y="13984"/>
                  <a:pt x="4713" y="13841"/>
                </a:cubicBezTo>
                <a:cubicBezTo>
                  <a:pt x="4721" y="13824"/>
                  <a:pt x="4730" y="13808"/>
                  <a:pt x="4738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52760" y="5106960"/>
            <a:ext cx="61920" cy="108000"/>
          </a:xfrm>
          <a:custGeom>
            <a:avLst/>
            <a:gdLst/>
            <a:ahLst/>
            <a:rect l="l" t="t" r="r" b="b"/>
            <a:pathLst>
              <a:path w="174" h="299">
                <a:moveTo>
                  <a:pt x="4713" y="14337"/>
                </a:moveTo>
                <a:cubicBezTo>
                  <a:pt x="4713" y="14269"/>
                  <a:pt x="4705" y="14241"/>
                  <a:pt x="4663" y="14188"/>
                </a:cubicBezTo>
                <a:cubicBezTo>
                  <a:pt x="4615" y="14236"/>
                  <a:pt x="4506" y="14455"/>
                  <a:pt x="4663" y="14486"/>
                </a:cubicBezTo>
                <a:cubicBezTo>
                  <a:pt x="4844" y="14522"/>
                  <a:pt x="4728" y="14221"/>
                  <a:pt x="4713" y="14238"/>
                </a:cubicBezTo>
                <a:cubicBezTo>
                  <a:pt x="4632" y="14329"/>
                  <a:pt x="4668" y="14396"/>
                  <a:pt x="4713" y="14486"/>
                </a:cubicBezTo>
                <a:cubicBezTo>
                  <a:pt x="4732" y="14362"/>
                  <a:pt x="4741" y="14262"/>
                  <a:pt x="4614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83000" y="4483080"/>
            <a:ext cx="839880" cy="384120"/>
          </a:xfrm>
          <a:custGeom>
            <a:avLst/>
            <a:gdLst/>
            <a:ahLst/>
            <a:rect l="l" t="t" r="r" b="b"/>
            <a:pathLst>
              <a:path w="2332" h="1068">
                <a:moveTo>
                  <a:pt x="10096" y="12923"/>
                </a:moveTo>
                <a:cubicBezTo>
                  <a:pt x="10064" y="12912"/>
                  <a:pt x="10066" y="12883"/>
                  <a:pt x="10046" y="12874"/>
                </a:cubicBezTo>
                <a:cubicBezTo>
                  <a:pt x="10013" y="12858"/>
                  <a:pt x="10021" y="12870"/>
                  <a:pt x="10021" y="12824"/>
                </a:cubicBezTo>
                <a:cubicBezTo>
                  <a:pt x="10036" y="12940"/>
                  <a:pt x="10078" y="13053"/>
                  <a:pt x="10096" y="13171"/>
                </a:cubicBezTo>
                <a:cubicBezTo>
                  <a:pt x="10100" y="13195"/>
                  <a:pt x="10096" y="13122"/>
                  <a:pt x="10096" y="13097"/>
                </a:cubicBezTo>
              </a:path>
              <a:path w="2332" h="1068">
                <a:moveTo>
                  <a:pt x="9674" y="12998"/>
                </a:moveTo>
                <a:cubicBezTo>
                  <a:pt x="9783" y="12868"/>
                  <a:pt x="9951" y="12705"/>
                  <a:pt x="10145" y="12725"/>
                </a:cubicBezTo>
                <a:cubicBezTo>
                  <a:pt x="10333" y="12745"/>
                  <a:pt x="10173" y="12904"/>
                  <a:pt x="10120" y="12948"/>
                </a:cubicBezTo>
                <a:cubicBezTo>
                  <a:pt x="10203" y="12948"/>
                  <a:pt x="10270" y="13034"/>
                  <a:pt x="10319" y="13097"/>
                </a:cubicBezTo>
                <a:cubicBezTo>
                  <a:pt x="10339" y="13137"/>
                  <a:pt x="10348" y="13143"/>
                  <a:pt x="10344" y="13171"/>
                </a:cubicBezTo>
              </a:path>
              <a:path w="2332" h="1068">
                <a:moveTo>
                  <a:pt x="10418" y="12675"/>
                </a:moveTo>
                <a:cubicBezTo>
                  <a:pt x="10486" y="12795"/>
                  <a:pt x="10501" y="12931"/>
                  <a:pt x="10567" y="13047"/>
                </a:cubicBezTo>
                <a:cubicBezTo>
                  <a:pt x="10591" y="13090"/>
                  <a:pt x="10765" y="13024"/>
                  <a:pt x="10765" y="13022"/>
                </a:cubicBezTo>
                <a:cubicBezTo>
                  <a:pt x="10757" y="13006"/>
                  <a:pt x="10748" y="12989"/>
                  <a:pt x="10740" y="12973"/>
                </a:cubicBezTo>
              </a:path>
              <a:path w="2332" h="1068">
                <a:moveTo>
                  <a:pt x="10393" y="12973"/>
                </a:moveTo>
                <a:cubicBezTo>
                  <a:pt x="10477" y="12934"/>
                  <a:pt x="10548" y="12898"/>
                  <a:pt x="10641" y="12898"/>
                </a:cubicBezTo>
              </a:path>
              <a:path w="2332" h="1068">
                <a:moveTo>
                  <a:pt x="10939" y="12948"/>
                </a:moveTo>
                <a:cubicBezTo>
                  <a:pt x="10939" y="12956"/>
                  <a:pt x="10939" y="12965"/>
                  <a:pt x="10939" y="12973"/>
                </a:cubicBezTo>
              </a:path>
              <a:path w="2332" h="1068">
                <a:moveTo>
                  <a:pt x="11162" y="12626"/>
                </a:moveTo>
                <a:cubicBezTo>
                  <a:pt x="11278" y="12615"/>
                  <a:pt x="11470" y="12651"/>
                  <a:pt x="11435" y="12824"/>
                </a:cubicBezTo>
                <a:cubicBezTo>
                  <a:pt x="11418" y="12907"/>
                  <a:pt x="11287" y="12974"/>
                  <a:pt x="11261" y="12874"/>
                </a:cubicBezTo>
                <a:cubicBezTo>
                  <a:pt x="11341" y="12834"/>
                  <a:pt x="11420" y="12844"/>
                  <a:pt x="11509" y="12799"/>
                </a:cubicBezTo>
              </a:path>
              <a:path w="2332" h="1068">
                <a:moveTo>
                  <a:pt x="11485" y="12526"/>
                </a:moveTo>
                <a:cubicBezTo>
                  <a:pt x="11559" y="12514"/>
                  <a:pt x="11687" y="12413"/>
                  <a:pt x="11757" y="12452"/>
                </a:cubicBezTo>
                <a:cubicBezTo>
                  <a:pt x="11838" y="12498"/>
                  <a:pt x="11820" y="12694"/>
                  <a:pt x="11832" y="12774"/>
                </a:cubicBezTo>
              </a:path>
              <a:path w="2332" h="1068">
                <a:moveTo>
                  <a:pt x="10195" y="13519"/>
                </a:moveTo>
                <a:cubicBezTo>
                  <a:pt x="10297" y="13451"/>
                  <a:pt x="10359" y="13425"/>
                  <a:pt x="10492" y="13395"/>
                </a:cubicBezTo>
                <a:cubicBezTo>
                  <a:pt x="10864" y="13311"/>
                  <a:pt x="11235" y="13219"/>
                  <a:pt x="11609" y="13146"/>
                </a:cubicBezTo>
                <a:cubicBezTo>
                  <a:pt x="11737" y="13121"/>
                  <a:pt x="11876" y="13097"/>
                  <a:pt x="12005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4760" y="4633920"/>
            <a:ext cx="723600" cy="430200"/>
          </a:xfrm>
          <a:custGeom>
            <a:avLst/>
            <a:gdLst/>
            <a:ahLst/>
            <a:rect l="l" t="t" r="r" b="b"/>
            <a:pathLst>
              <a:path w="2010" h="1191">
                <a:moveTo>
                  <a:pt x="10840" y="13593"/>
                </a:moveTo>
                <a:cubicBezTo>
                  <a:pt x="10848" y="13593"/>
                  <a:pt x="10856" y="13593"/>
                  <a:pt x="10864" y="13593"/>
                </a:cubicBezTo>
                <a:cubicBezTo>
                  <a:pt x="10875" y="13593"/>
                  <a:pt x="10761" y="13555"/>
                  <a:pt x="10790" y="13742"/>
                </a:cubicBezTo>
                <a:cubicBezTo>
                  <a:pt x="10828" y="13989"/>
                  <a:pt x="11043" y="13734"/>
                  <a:pt x="11088" y="13667"/>
                </a:cubicBezTo>
              </a:path>
              <a:path w="2010" h="1191">
                <a:moveTo>
                  <a:pt x="11088" y="13568"/>
                </a:moveTo>
                <a:cubicBezTo>
                  <a:pt x="11068" y="13645"/>
                  <a:pt x="11044" y="13663"/>
                  <a:pt x="11088" y="13692"/>
                </a:cubicBezTo>
                <a:cubicBezTo>
                  <a:pt x="11160" y="13707"/>
                  <a:pt x="11161" y="13638"/>
                  <a:pt x="11261" y="13643"/>
                </a:cubicBezTo>
                <a:cubicBezTo>
                  <a:pt x="11360" y="13648"/>
                  <a:pt x="11330" y="13571"/>
                  <a:pt x="11336" y="13494"/>
                </a:cubicBezTo>
                <a:cubicBezTo>
                  <a:pt x="11345" y="13529"/>
                  <a:pt x="11401" y="13601"/>
                  <a:pt x="11385" y="13568"/>
                </a:cubicBezTo>
                <a:cubicBezTo>
                  <a:pt x="11371" y="13538"/>
                  <a:pt x="11367" y="13319"/>
                  <a:pt x="11460" y="13370"/>
                </a:cubicBezTo>
                <a:cubicBezTo>
                  <a:pt x="11485" y="13395"/>
                  <a:pt x="11509" y="13419"/>
                  <a:pt x="11534" y="13444"/>
                </a:cubicBezTo>
              </a:path>
              <a:path w="2010" h="1191">
                <a:moveTo>
                  <a:pt x="11534" y="13866"/>
                </a:moveTo>
                <a:cubicBezTo>
                  <a:pt x="11410" y="13866"/>
                  <a:pt x="11378" y="13910"/>
                  <a:pt x="11311" y="14015"/>
                </a:cubicBezTo>
                <a:cubicBezTo>
                  <a:pt x="11218" y="14159"/>
                  <a:pt x="11471" y="13953"/>
                  <a:pt x="11485" y="13940"/>
                </a:cubicBezTo>
              </a:path>
              <a:path w="2010" h="1191">
                <a:moveTo>
                  <a:pt x="11410" y="13816"/>
                </a:moveTo>
                <a:cubicBezTo>
                  <a:pt x="11448" y="13882"/>
                  <a:pt x="11460" y="13996"/>
                  <a:pt x="11534" y="13940"/>
                </a:cubicBezTo>
              </a:path>
              <a:path w="2010" h="1191">
                <a:moveTo>
                  <a:pt x="11559" y="13816"/>
                </a:moveTo>
                <a:cubicBezTo>
                  <a:pt x="11605" y="13764"/>
                  <a:pt x="11627" y="13730"/>
                  <a:pt x="11658" y="13667"/>
                </a:cubicBezTo>
                <a:cubicBezTo>
                  <a:pt x="11606" y="13680"/>
                  <a:pt x="11470" y="13784"/>
                  <a:pt x="11584" y="13841"/>
                </a:cubicBezTo>
                <a:cubicBezTo>
                  <a:pt x="11670" y="13841"/>
                  <a:pt x="11706" y="13835"/>
                  <a:pt x="11757" y="13791"/>
                </a:cubicBezTo>
              </a:path>
              <a:path w="2010" h="1191">
                <a:moveTo>
                  <a:pt x="11832" y="13618"/>
                </a:moveTo>
                <a:cubicBezTo>
                  <a:pt x="11761" y="13668"/>
                  <a:pt x="11764" y="13679"/>
                  <a:pt x="11733" y="13767"/>
                </a:cubicBezTo>
                <a:cubicBezTo>
                  <a:pt x="11823" y="13767"/>
                  <a:pt x="11803" y="13703"/>
                  <a:pt x="11832" y="13643"/>
                </a:cubicBezTo>
                <a:cubicBezTo>
                  <a:pt x="11855" y="13595"/>
                  <a:pt x="11901" y="13736"/>
                  <a:pt x="11931" y="13692"/>
                </a:cubicBezTo>
                <a:cubicBezTo>
                  <a:pt x="11948" y="13651"/>
                  <a:pt x="11964" y="13609"/>
                  <a:pt x="11981" y="13568"/>
                </a:cubicBezTo>
              </a:path>
              <a:path w="2010" h="1191">
                <a:moveTo>
                  <a:pt x="11931" y="13196"/>
                </a:moveTo>
                <a:cubicBezTo>
                  <a:pt x="11978" y="13320"/>
                  <a:pt x="12020" y="13441"/>
                  <a:pt x="12055" y="13568"/>
                </a:cubicBezTo>
              </a:path>
              <a:path w="2010" h="1191">
                <a:moveTo>
                  <a:pt x="12229" y="13295"/>
                </a:moveTo>
                <a:cubicBezTo>
                  <a:pt x="12292" y="13254"/>
                  <a:pt x="12384" y="13220"/>
                  <a:pt x="12402" y="13146"/>
                </a:cubicBezTo>
                <a:cubicBezTo>
                  <a:pt x="12317" y="13096"/>
                  <a:pt x="12262" y="13150"/>
                  <a:pt x="12254" y="13271"/>
                </a:cubicBezTo>
                <a:cubicBezTo>
                  <a:pt x="12234" y="13573"/>
                  <a:pt x="12485" y="13219"/>
                  <a:pt x="12502" y="13196"/>
                </a:cubicBezTo>
                <a:cubicBezTo>
                  <a:pt x="12601" y="13057"/>
                  <a:pt x="12632" y="13023"/>
                  <a:pt x="12650" y="13171"/>
                </a:cubicBezTo>
                <a:cubicBezTo>
                  <a:pt x="12666" y="13041"/>
                  <a:pt x="12683" y="12981"/>
                  <a:pt x="12774" y="12898"/>
                </a:cubicBezTo>
                <a:cubicBezTo>
                  <a:pt x="12782" y="12890"/>
                  <a:pt x="12791" y="12882"/>
                  <a:pt x="12799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0120" y="5384880"/>
            <a:ext cx="803160" cy="973080"/>
          </a:xfrm>
          <a:custGeom>
            <a:avLst/>
            <a:gdLst/>
            <a:ahLst/>
            <a:rect l="l" t="t" r="r" b="b"/>
            <a:pathLst>
              <a:path w="2233" h="2705">
                <a:moveTo>
                  <a:pt x="10815" y="15974"/>
                </a:moveTo>
                <a:cubicBezTo>
                  <a:pt x="10815" y="15954"/>
                  <a:pt x="10803" y="15884"/>
                  <a:pt x="10765" y="15925"/>
                </a:cubicBezTo>
                <a:cubicBezTo>
                  <a:pt x="10757" y="15941"/>
                  <a:pt x="10748" y="15958"/>
                  <a:pt x="10740" y="15974"/>
                </a:cubicBezTo>
                <a:cubicBezTo>
                  <a:pt x="10763" y="16076"/>
                  <a:pt x="10865" y="16106"/>
                  <a:pt x="10914" y="15974"/>
                </a:cubicBezTo>
                <a:cubicBezTo>
                  <a:pt x="10966" y="15834"/>
                  <a:pt x="10744" y="15864"/>
                  <a:pt x="10691" y="15949"/>
                </a:cubicBezTo>
                <a:cubicBezTo>
                  <a:pt x="10683" y="15982"/>
                  <a:pt x="10674" y="16016"/>
                  <a:pt x="10666" y="16049"/>
                </a:cubicBezTo>
                <a:cubicBezTo>
                  <a:pt x="10714" y="16106"/>
                  <a:pt x="10833" y="16119"/>
                  <a:pt x="10840" y="15999"/>
                </a:cubicBezTo>
                <a:cubicBezTo>
                  <a:pt x="10846" y="15887"/>
                  <a:pt x="10729" y="15964"/>
                  <a:pt x="10716" y="16024"/>
                </a:cubicBezTo>
                <a:cubicBezTo>
                  <a:pt x="10751" y="16059"/>
                  <a:pt x="10768" y="16096"/>
                  <a:pt x="10790" y="16049"/>
                </a:cubicBezTo>
                <a:cubicBezTo>
                  <a:pt x="10798" y="16032"/>
                  <a:pt x="10807" y="16016"/>
                  <a:pt x="10815" y="15999"/>
                </a:cubicBezTo>
              </a:path>
              <a:path w="2233" h="2705">
                <a:moveTo>
                  <a:pt x="11261" y="15825"/>
                </a:moveTo>
                <a:cubicBezTo>
                  <a:pt x="11300" y="15941"/>
                  <a:pt x="11353" y="16059"/>
                  <a:pt x="11385" y="16173"/>
                </a:cubicBezTo>
                <a:cubicBezTo>
                  <a:pt x="11366" y="16034"/>
                  <a:pt x="11321" y="15887"/>
                  <a:pt x="11286" y="15751"/>
                </a:cubicBezTo>
                <a:cubicBezTo>
                  <a:pt x="11266" y="15691"/>
                  <a:pt x="11267" y="15677"/>
                  <a:pt x="11237" y="15652"/>
                </a:cubicBezTo>
                <a:cubicBezTo>
                  <a:pt x="11324" y="15634"/>
                  <a:pt x="11452" y="15610"/>
                  <a:pt x="11534" y="15577"/>
                </a:cubicBezTo>
                <a:cubicBezTo>
                  <a:pt x="11597" y="15551"/>
                  <a:pt x="11615" y="15471"/>
                  <a:pt x="11633" y="15528"/>
                </a:cubicBezTo>
              </a:path>
              <a:path w="2233" h="2705">
                <a:moveTo>
                  <a:pt x="11385" y="15949"/>
                </a:moveTo>
                <a:cubicBezTo>
                  <a:pt x="11465" y="15918"/>
                  <a:pt x="11548" y="15889"/>
                  <a:pt x="11633" y="15875"/>
                </a:cubicBezTo>
              </a:path>
              <a:path w="2233" h="2705">
                <a:moveTo>
                  <a:pt x="11633" y="16520"/>
                </a:moveTo>
                <a:cubicBezTo>
                  <a:pt x="11683" y="16693"/>
                  <a:pt x="11742" y="16853"/>
                  <a:pt x="11757" y="17041"/>
                </a:cubicBezTo>
                <a:cubicBezTo>
                  <a:pt x="11775" y="17270"/>
                  <a:pt x="11747" y="17281"/>
                  <a:pt x="11782" y="17016"/>
                </a:cubicBezTo>
              </a:path>
              <a:path w="2233" h="2705">
                <a:moveTo>
                  <a:pt x="11931" y="16743"/>
                </a:moveTo>
                <a:cubicBezTo>
                  <a:pt x="11931" y="16817"/>
                  <a:pt x="11931" y="16826"/>
                  <a:pt x="11931" y="16867"/>
                </a:cubicBezTo>
                <a:cubicBezTo>
                  <a:pt x="12047" y="16834"/>
                  <a:pt x="12129" y="16818"/>
                  <a:pt x="12254" y="16818"/>
                </a:cubicBezTo>
                <a:cubicBezTo>
                  <a:pt x="12262" y="16818"/>
                  <a:pt x="12270" y="16818"/>
                  <a:pt x="12278" y="16818"/>
                </a:cubicBezTo>
              </a:path>
              <a:path w="2233" h="2705">
                <a:moveTo>
                  <a:pt x="12154" y="16446"/>
                </a:moveTo>
                <a:cubicBezTo>
                  <a:pt x="12174" y="16532"/>
                  <a:pt x="12227" y="17046"/>
                  <a:pt x="12303" y="17090"/>
                </a:cubicBezTo>
                <a:cubicBezTo>
                  <a:pt x="12320" y="17082"/>
                  <a:pt x="12336" y="17074"/>
                  <a:pt x="12353" y="17066"/>
                </a:cubicBezTo>
              </a:path>
              <a:path w="2233" h="2705">
                <a:moveTo>
                  <a:pt x="12576" y="16421"/>
                </a:moveTo>
                <a:cubicBezTo>
                  <a:pt x="12505" y="16624"/>
                  <a:pt x="12463" y="16835"/>
                  <a:pt x="12576" y="17041"/>
                </a:cubicBezTo>
                <a:cubicBezTo>
                  <a:pt x="12601" y="17066"/>
                  <a:pt x="12625" y="17090"/>
                  <a:pt x="12650" y="17115"/>
                </a:cubicBezTo>
                <a:cubicBezTo>
                  <a:pt x="12883" y="17017"/>
                  <a:pt x="12982" y="16852"/>
                  <a:pt x="12824" y="16594"/>
                </a:cubicBezTo>
                <a:cubicBezTo>
                  <a:pt x="12720" y="16423"/>
                  <a:pt x="12550" y="16435"/>
                  <a:pt x="12402" y="16520"/>
                </a:cubicBezTo>
              </a:path>
              <a:path w="2233" h="2705">
                <a:moveTo>
                  <a:pt x="11857" y="17562"/>
                </a:moveTo>
                <a:cubicBezTo>
                  <a:pt x="12074" y="17479"/>
                  <a:pt x="12265" y="17412"/>
                  <a:pt x="12502" y="17363"/>
                </a:cubicBezTo>
                <a:cubicBezTo>
                  <a:pt x="12634" y="17336"/>
                  <a:pt x="12976" y="17243"/>
                  <a:pt x="12849" y="17289"/>
                </a:cubicBezTo>
                <a:cubicBezTo>
                  <a:pt x="12808" y="17305"/>
                  <a:pt x="12766" y="17322"/>
                  <a:pt x="12725" y="17338"/>
                </a:cubicBezTo>
              </a:path>
              <a:path w="2233" h="2705">
                <a:moveTo>
                  <a:pt x="11981" y="17661"/>
                </a:moveTo>
                <a:cubicBezTo>
                  <a:pt x="12238" y="17561"/>
                  <a:pt x="12501" y="17460"/>
                  <a:pt x="12774" y="17413"/>
                </a:cubicBezTo>
                <a:cubicBezTo>
                  <a:pt x="12816" y="17413"/>
                  <a:pt x="12841" y="17413"/>
                  <a:pt x="12799" y="17413"/>
                </a:cubicBezTo>
              </a:path>
              <a:path w="2233" h="2705">
                <a:moveTo>
                  <a:pt x="11956" y="15156"/>
                </a:moveTo>
                <a:cubicBezTo>
                  <a:pt x="11977" y="15239"/>
                  <a:pt x="12002" y="15312"/>
                  <a:pt x="12055" y="15379"/>
                </a:cubicBezTo>
              </a:path>
              <a:path w="2233" h="2705">
                <a:moveTo>
                  <a:pt x="12154" y="15205"/>
                </a:moveTo>
                <a:cubicBezTo>
                  <a:pt x="12171" y="15231"/>
                  <a:pt x="12291" y="15366"/>
                  <a:pt x="12229" y="15304"/>
                </a:cubicBezTo>
              </a:path>
              <a:path w="2233" h="2705">
                <a:moveTo>
                  <a:pt x="12154" y="15131"/>
                </a:moveTo>
                <a:cubicBezTo>
                  <a:pt x="12179" y="15123"/>
                  <a:pt x="12204" y="15114"/>
                  <a:pt x="12229" y="15106"/>
                </a:cubicBezTo>
              </a:path>
              <a:path w="2233" h="2705">
                <a:moveTo>
                  <a:pt x="12229" y="15106"/>
                </a:moveTo>
                <a:lnTo>
                  <a:pt x="12229" y="15106"/>
                </a:lnTo>
              </a:path>
              <a:path w="2233" h="2705">
                <a:moveTo>
                  <a:pt x="12402" y="15056"/>
                </a:moveTo>
                <a:cubicBezTo>
                  <a:pt x="12396" y="15144"/>
                  <a:pt x="12385" y="15202"/>
                  <a:pt x="12402" y="15280"/>
                </a:cubicBezTo>
                <a:cubicBezTo>
                  <a:pt x="12483" y="15266"/>
                  <a:pt x="12623" y="15243"/>
                  <a:pt x="12551" y="15131"/>
                </a:cubicBezTo>
                <a:cubicBezTo>
                  <a:pt x="12508" y="15063"/>
                  <a:pt x="12492" y="15161"/>
                  <a:pt x="12526" y="15056"/>
                </a:cubicBezTo>
              </a:path>
              <a:path w="2233" h="2705">
                <a:moveTo>
                  <a:pt x="12675" y="15081"/>
                </a:moveTo>
                <a:cubicBezTo>
                  <a:pt x="12683" y="15098"/>
                  <a:pt x="12692" y="15114"/>
                  <a:pt x="12700" y="15131"/>
                </a:cubicBezTo>
                <a:cubicBezTo>
                  <a:pt x="12700" y="15062"/>
                  <a:pt x="12671" y="14943"/>
                  <a:pt x="12774" y="14957"/>
                </a:cubicBezTo>
                <a:cubicBezTo>
                  <a:pt x="12862" y="14969"/>
                  <a:pt x="12898" y="15025"/>
                  <a:pt x="12898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49800" y="4813200"/>
            <a:ext cx="314280" cy="374760"/>
          </a:xfrm>
          <a:custGeom>
            <a:avLst/>
            <a:gdLst/>
            <a:ahLst/>
            <a:rect l="l" t="t" r="r" b="b"/>
            <a:pathLst>
              <a:path w="869" h="1043">
                <a:moveTo>
                  <a:pt x="12477" y="14263"/>
                </a:moveTo>
                <a:cubicBezTo>
                  <a:pt x="12477" y="14255"/>
                  <a:pt x="12477" y="14246"/>
                  <a:pt x="12477" y="14238"/>
                </a:cubicBezTo>
                <a:cubicBezTo>
                  <a:pt x="12481" y="14289"/>
                  <a:pt x="12527" y="14557"/>
                  <a:pt x="12650" y="14362"/>
                </a:cubicBezTo>
                <a:cubicBezTo>
                  <a:pt x="12744" y="14213"/>
                  <a:pt x="12567" y="14072"/>
                  <a:pt x="12551" y="14288"/>
                </a:cubicBezTo>
                <a:cubicBezTo>
                  <a:pt x="12570" y="14345"/>
                  <a:pt x="12561" y="14370"/>
                  <a:pt x="12601" y="14362"/>
                </a:cubicBezTo>
                <a:cubicBezTo>
                  <a:pt x="12645" y="14260"/>
                  <a:pt x="12616" y="14245"/>
                  <a:pt x="12576" y="14139"/>
                </a:cubicBezTo>
              </a:path>
              <a:path w="869" h="1043">
                <a:moveTo>
                  <a:pt x="12154" y="13519"/>
                </a:moveTo>
                <a:cubicBezTo>
                  <a:pt x="12200" y="13588"/>
                  <a:pt x="12330" y="13883"/>
                  <a:pt x="12353" y="13791"/>
                </a:cubicBezTo>
              </a:path>
              <a:path w="869" h="1043">
                <a:moveTo>
                  <a:pt x="11807" y="13419"/>
                </a:moveTo>
                <a:cubicBezTo>
                  <a:pt x="12019" y="13399"/>
                  <a:pt x="12586" y="13312"/>
                  <a:pt x="12601" y="13692"/>
                </a:cubicBezTo>
                <a:cubicBezTo>
                  <a:pt x="12608" y="13854"/>
                  <a:pt x="12401" y="13874"/>
                  <a:pt x="12303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178000"/>
            <a:ext cx="615960" cy="484200"/>
          </a:xfrm>
          <a:custGeom>
            <a:avLst/>
            <a:gdLst/>
            <a:ahLst/>
            <a:rect l="l" t="t" r="r" b="b"/>
            <a:pathLst>
              <a:path w="1713" h="1341">
                <a:moveTo>
                  <a:pt x="16073" y="6474"/>
                </a:moveTo>
                <a:cubicBezTo>
                  <a:pt x="16303" y="6408"/>
                  <a:pt x="16519" y="6394"/>
                  <a:pt x="16768" y="6375"/>
                </a:cubicBezTo>
                <a:cubicBezTo>
                  <a:pt x="17001" y="6357"/>
                  <a:pt x="17232" y="6353"/>
                  <a:pt x="17462" y="6325"/>
                </a:cubicBezTo>
              </a:path>
              <a:path w="1713" h="1341">
                <a:moveTo>
                  <a:pt x="17165" y="6052"/>
                </a:moveTo>
                <a:cubicBezTo>
                  <a:pt x="17267" y="6052"/>
                  <a:pt x="17395" y="6114"/>
                  <a:pt x="17487" y="6152"/>
                </a:cubicBezTo>
                <a:cubicBezTo>
                  <a:pt x="17561" y="6188"/>
                  <a:pt x="17594" y="6176"/>
                  <a:pt x="17587" y="6226"/>
                </a:cubicBezTo>
                <a:cubicBezTo>
                  <a:pt x="17587" y="6320"/>
                  <a:pt x="17362" y="6449"/>
                  <a:pt x="17289" y="6499"/>
                </a:cubicBezTo>
                <a:cubicBezTo>
                  <a:pt x="17248" y="6524"/>
                  <a:pt x="17206" y="6548"/>
                  <a:pt x="17165" y="6573"/>
                </a:cubicBezTo>
              </a:path>
              <a:path w="1713" h="1341">
                <a:moveTo>
                  <a:pt x="16098" y="6226"/>
                </a:moveTo>
                <a:cubicBezTo>
                  <a:pt x="16062" y="6337"/>
                  <a:pt x="15974" y="6439"/>
                  <a:pt x="15925" y="6548"/>
                </a:cubicBezTo>
                <a:cubicBezTo>
                  <a:pt x="15925" y="6556"/>
                  <a:pt x="15925" y="6565"/>
                  <a:pt x="15925" y="6573"/>
                </a:cubicBezTo>
                <a:cubicBezTo>
                  <a:pt x="16032" y="6573"/>
                  <a:pt x="16140" y="6573"/>
                  <a:pt x="16247" y="6573"/>
                </a:cubicBezTo>
              </a:path>
              <a:path w="1713" h="1341">
                <a:moveTo>
                  <a:pt x="15949" y="7045"/>
                </a:moveTo>
                <a:cubicBezTo>
                  <a:pt x="15933" y="7129"/>
                  <a:pt x="15874" y="7370"/>
                  <a:pt x="15875" y="7367"/>
                </a:cubicBezTo>
                <a:cubicBezTo>
                  <a:pt x="15944" y="7194"/>
                  <a:pt x="15980" y="7031"/>
                  <a:pt x="16073" y="6871"/>
                </a:cubicBezTo>
                <a:cubicBezTo>
                  <a:pt x="16212" y="7038"/>
                  <a:pt x="16256" y="7153"/>
                  <a:pt x="16272" y="7367"/>
                </a:cubicBezTo>
                <a:cubicBezTo>
                  <a:pt x="16272" y="7395"/>
                  <a:pt x="16270" y="7401"/>
                  <a:pt x="16247" y="7367"/>
                </a:cubicBezTo>
              </a:path>
              <a:path w="1713" h="1341">
                <a:moveTo>
                  <a:pt x="15999" y="7268"/>
                </a:moveTo>
                <a:cubicBezTo>
                  <a:pt x="16212" y="7187"/>
                  <a:pt x="16293" y="7158"/>
                  <a:pt x="16446" y="7119"/>
                </a:cubicBezTo>
              </a:path>
              <a:path w="1713" h="1341">
                <a:moveTo>
                  <a:pt x="16768" y="7020"/>
                </a:moveTo>
                <a:cubicBezTo>
                  <a:pt x="16770" y="7031"/>
                  <a:pt x="16818" y="7461"/>
                  <a:pt x="16818" y="7317"/>
                </a:cubicBezTo>
                <a:cubicBezTo>
                  <a:pt x="16767" y="7141"/>
                  <a:pt x="16737" y="6927"/>
                  <a:pt x="16942" y="6821"/>
                </a:cubicBezTo>
                <a:cubicBezTo>
                  <a:pt x="17147" y="6715"/>
                  <a:pt x="17027" y="7039"/>
                  <a:pt x="16966" y="7094"/>
                </a:cubicBezTo>
                <a:cubicBezTo>
                  <a:pt x="16926" y="7114"/>
                  <a:pt x="16910" y="7133"/>
                  <a:pt x="16917" y="7094"/>
                </a:cubicBezTo>
                <a:cubicBezTo>
                  <a:pt x="17032" y="7094"/>
                  <a:pt x="17084" y="7106"/>
                  <a:pt x="17190" y="7144"/>
                </a:cubicBezTo>
                <a:cubicBezTo>
                  <a:pt x="17084" y="7367"/>
                  <a:pt x="16998" y="7394"/>
                  <a:pt x="16743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53160" y="2347920"/>
            <a:ext cx="133560" cy="393840"/>
          </a:xfrm>
          <a:custGeom>
            <a:avLst/>
            <a:gdLst/>
            <a:ahLst/>
            <a:rect l="l" t="t" r="r" b="b"/>
            <a:pathLst>
              <a:path w="374" h="1092">
                <a:moveTo>
                  <a:pt x="18479" y="6524"/>
                </a:moveTo>
                <a:cubicBezTo>
                  <a:pt x="18545" y="6633"/>
                  <a:pt x="18486" y="6873"/>
                  <a:pt x="18479" y="7020"/>
                </a:cubicBezTo>
                <a:cubicBezTo>
                  <a:pt x="18471" y="7190"/>
                  <a:pt x="18494" y="7349"/>
                  <a:pt x="18504" y="7516"/>
                </a:cubicBezTo>
                <a:cubicBezTo>
                  <a:pt x="18504" y="7524"/>
                  <a:pt x="18504" y="7533"/>
                  <a:pt x="18504" y="7541"/>
                </a:cubicBezTo>
              </a:path>
              <a:path w="374" h="1092">
                <a:moveTo>
                  <a:pt x="18752" y="6573"/>
                </a:moveTo>
                <a:cubicBezTo>
                  <a:pt x="18824" y="6609"/>
                  <a:pt x="18802" y="6691"/>
                  <a:pt x="18802" y="6772"/>
                </a:cubicBezTo>
                <a:cubicBezTo>
                  <a:pt x="18802" y="6940"/>
                  <a:pt x="18796" y="7116"/>
                  <a:pt x="18827" y="7268"/>
                </a:cubicBezTo>
                <a:cubicBezTo>
                  <a:pt x="18846" y="7363"/>
                  <a:pt x="18822" y="7454"/>
                  <a:pt x="18852" y="7541"/>
                </a:cubicBezTo>
                <a:cubicBezTo>
                  <a:pt x="18858" y="7560"/>
                  <a:pt x="18852" y="7595"/>
                  <a:pt x="18852" y="76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02680" y="2143080"/>
            <a:ext cx="544320" cy="563760"/>
          </a:xfrm>
          <a:custGeom>
            <a:avLst/>
            <a:gdLst/>
            <a:ahLst/>
            <a:rect l="l" t="t" r="r" b="b"/>
            <a:pathLst>
              <a:path w="1514" h="1564">
                <a:moveTo>
                  <a:pt x="20762" y="6400"/>
                </a:moveTo>
                <a:cubicBezTo>
                  <a:pt x="21050" y="6387"/>
                  <a:pt x="21341" y="6354"/>
                  <a:pt x="21630" y="6375"/>
                </a:cubicBezTo>
                <a:cubicBezTo>
                  <a:pt x="21745" y="6394"/>
                  <a:pt x="21761" y="6403"/>
                  <a:pt x="21828" y="6400"/>
                </a:cubicBezTo>
              </a:path>
              <a:path w="1514" h="1564">
                <a:moveTo>
                  <a:pt x="21456" y="5953"/>
                </a:moveTo>
                <a:cubicBezTo>
                  <a:pt x="21657" y="6029"/>
                  <a:pt x="21839" y="6123"/>
                  <a:pt x="22027" y="6226"/>
                </a:cubicBezTo>
                <a:cubicBezTo>
                  <a:pt x="22067" y="6246"/>
                  <a:pt x="22083" y="6245"/>
                  <a:pt x="22076" y="6276"/>
                </a:cubicBezTo>
                <a:cubicBezTo>
                  <a:pt x="21889" y="6463"/>
                  <a:pt x="21711" y="6542"/>
                  <a:pt x="21456" y="6623"/>
                </a:cubicBezTo>
              </a:path>
              <a:path w="1514" h="1564">
                <a:moveTo>
                  <a:pt x="20910" y="6077"/>
                </a:moveTo>
                <a:cubicBezTo>
                  <a:pt x="20798" y="6228"/>
                  <a:pt x="20713" y="6319"/>
                  <a:pt x="20563" y="6424"/>
                </a:cubicBezTo>
                <a:cubicBezTo>
                  <a:pt x="20710" y="6445"/>
                  <a:pt x="20843" y="6513"/>
                  <a:pt x="20985" y="6548"/>
                </a:cubicBezTo>
                <a:cubicBezTo>
                  <a:pt x="21001" y="6548"/>
                  <a:pt x="21018" y="6548"/>
                  <a:pt x="21034" y="6548"/>
                </a:cubicBezTo>
              </a:path>
              <a:path w="1514" h="1564">
                <a:moveTo>
                  <a:pt x="20861" y="7045"/>
                </a:moveTo>
                <a:cubicBezTo>
                  <a:pt x="20861" y="7093"/>
                  <a:pt x="20853" y="6998"/>
                  <a:pt x="20836" y="6970"/>
                </a:cubicBezTo>
                <a:cubicBezTo>
                  <a:pt x="20674" y="7032"/>
                  <a:pt x="20492" y="7285"/>
                  <a:pt x="20687" y="7466"/>
                </a:cubicBezTo>
                <a:cubicBezTo>
                  <a:pt x="20882" y="7647"/>
                  <a:pt x="21120" y="7389"/>
                  <a:pt x="21258" y="7293"/>
                </a:cubicBezTo>
              </a:path>
              <a:path w="1514" h="1564">
                <a:moveTo>
                  <a:pt x="21357" y="6970"/>
                </a:moveTo>
                <a:cubicBezTo>
                  <a:pt x="21396" y="7119"/>
                  <a:pt x="21448" y="7269"/>
                  <a:pt x="21481" y="7417"/>
                </a:cubicBezTo>
              </a:path>
              <a:path w="1514" h="1564">
                <a:moveTo>
                  <a:pt x="21282" y="6896"/>
                </a:moveTo>
                <a:cubicBezTo>
                  <a:pt x="21393" y="6939"/>
                  <a:pt x="22018" y="7079"/>
                  <a:pt x="21779" y="7342"/>
                </a:cubicBezTo>
                <a:cubicBezTo>
                  <a:pt x="21666" y="7466"/>
                  <a:pt x="21531" y="7448"/>
                  <a:pt x="21406" y="74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13280" y="3321000"/>
            <a:ext cx="204840" cy="196920"/>
          </a:xfrm>
          <a:custGeom>
            <a:avLst/>
            <a:gdLst/>
            <a:ahLst/>
            <a:rect l="l" t="t" r="r" b="b"/>
            <a:pathLst>
              <a:path w="571" h="547">
                <a:moveTo>
                  <a:pt x="16446" y="9327"/>
                </a:moveTo>
                <a:cubicBezTo>
                  <a:pt x="16446" y="9273"/>
                  <a:pt x="16337" y="9505"/>
                  <a:pt x="16321" y="9525"/>
                </a:cubicBezTo>
                <a:cubicBezTo>
                  <a:pt x="16253" y="9608"/>
                  <a:pt x="16199" y="9656"/>
                  <a:pt x="16148" y="9748"/>
                </a:cubicBezTo>
                <a:cubicBezTo>
                  <a:pt x="16272" y="9748"/>
                  <a:pt x="16396" y="9748"/>
                  <a:pt x="16520" y="9748"/>
                </a:cubicBezTo>
              </a:path>
              <a:path w="571" h="547">
                <a:moveTo>
                  <a:pt x="16669" y="9227"/>
                </a:moveTo>
                <a:cubicBezTo>
                  <a:pt x="16733" y="9333"/>
                  <a:pt x="16715" y="9498"/>
                  <a:pt x="16718" y="9624"/>
                </a:cubicBezTo>
                <a:cubicBezTo>
                  <a:pt x="16719" y="9673"/>
                  <a:pt x="16718" y="9723"/>
                  <a:pt x="16718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34040" y="3330720"/>
            <a:ext cx="447840" cy="268200"/>
          </a:xfrm>
          <a:custGeom>
            <a:avLst/>
            <a:gdLst/>
            <a:ahLst/>
            <a:rect l="l" t="t" r="r" b="b"/>
            <a:pathLst>
              <a:path w="1241" h="745">
                <a:moveTo>
                  <a:pt x="17115" y="9823"/>
                </a:moveTo>
                <a:cubicBezTo>
                  <a:pt x="17103" y="9893"/>
                  <a:pt x="17084" y="9942"/>
                  <a:pt x="17041" y="9996"/>
                </a:cubicBezTo>
              </a:path>
              <a:path w="1241" h="745">
                <a:moveTo>
                  <a:pt x="17512" y="9302"/>
                </a:moveTo>
                <a:cubicBezTo>
                  <a:pt x="17494" y="9429"/>
                  <a:pt x="17432" y="9541"/>
                  <a:pt x="17363" y="9649"/>
                </a:cubicBezTo>
                <a:cubicBezTo>
                  <a:pt x="17355" y="9657"/>
                  <a:pt x="17346" y="9666"/>
                  <a:pt x="17338" y="9674"/>
                </a:cubicBezTo>
                <a:cubicBezTo>
                  <a:pt x="17421" y="9695"/>
                  <a:pt x="17487" y="9699"/>
                  <a:pt x="17587" y="9699"/>
                </a:cubicBezTo>
                <a:cubicBezTo>
                  <a:pt x="17628" y="9699"/>
                  <a:pt x="17636" y="9699"/>
                  <a:pt x="17661" y="9699"/>
                </a:cubicBezTo>
              </a:path>
              <a:path w="1241" h="745">
                <a:moveTo>
                  <a:pt x="18132" y="9277"/>
                </a:moveTo>
                <a:cubicBezTo>
                  <a:pt x="18087" y="9277"/>
                  <a:pt x="18013" y="9243"/>
                  <a:pt x="17983" y="9252"/>
                </a:cubicBezTo>
                <a:cubicBezTo>
                  <a:pt x="17890" y="9279"/>
                  <a:pt x="17898" y="9374"/>
                  <a:pt x="17884" y="9451"/>
                </a:cubicBezTo>
                <a:cubicBezTo>
                  <a:pt x="17908" y="9520"/>
                  <a:pt x="18002" y="9447"/>
                  <a:pt x="18058" y="9451"/>
                </a:cubicBezTo>
                <a:cubicBezTo>
                  <a:pt x="18206" y="9462"/>
                  <a:pt x="18317" y="9609"/>
                  <a:pt x="18256" y="9748"/>
                </a:cubicBezTo>
                <a:cubicBezTo>
                  <a:pt x="18199" y="9878"/>
                  <a:pt x="18072" y="9838"/>
                  <a:pt x="17983" y="9823"/>
                </a:cubicBezTo>
                <a:cubicBezTo>
                  <a:pt x="17967" y="9823"/>
                  <a:pt x="17950" y="9823"/>
                  <a:pt x="17934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3080" y="3330720"/>
            <a:ext cx="411120" cy="223560"/>
          </a:xfrm>
          <a:custGeom>
            <a:avLst/>
            <a:gdLst/>
            <a:ahLst/>
            <a:rect l="l" t="t" r="r" b="b"/>
            <a:pathLst>
              <a:path w="1142" h="621">
                <a:moveTo>
                  <a:pt x="18976" y="9550"/>
                </a:moveTo>
                <a:cubicBezTo>
                  <a:pt x="18963" y="9639"/>
                  <a:pt x="18956" y="9707"/>
                  <a:pt x="18951" y="9798"/>
                </a:cubicBezTo>
                <a:cubicBezTo>
                  <a:pt x="18951" y="9992"/>
                  <a:pt x="18967" y="9689"/>
                  <a:pt x="18976" y="9649"/>
                </a:cubicBezTo>
                <a:cubicBezTo>
                  <a:pt x="18999" y="9543"/>
                  <a:pt x="19118" y="9476"/>
                  <a:pt x="19174" y="9624"/>
                </a:cubicBezTo>
                <a:cubicBezTo>
                  <a:pt x="19174" y="9690"/>
                  <a:pt x="19174" y="9707"/>
                  <a:pt x="19174" y="9748"/>
                </a:cubicBezTo>
                <a:cubicBezTo>
                  <a:pt x="19174" y="9627"/>
                  <a:pt x="19214" y="9554"/>
                  <a:pt x="19273" y="9451"/>
                </a:cubicBezTo>
                <a:cubicBezTo>
                  <a:pt x="19403" y="9451"/>
                  <a:pt x="19389" y="9538"/>
                  <a:pt x="19397" y="9649"/>
                </a:cubicBezTo>
                <a:cubicBezTo>
                  <a:pt x="19397" y="9690"/>
                  <a:pt x="19397" y="9698"/>
                  <a:pt x="19397" y="9723"/>
                </a:cubicBezTo>
              </a:path>
              <a:path w="1142" h="621">
                <a:moveTo>
                  <a:pt x="19794" y="9252"/>
                </a:moveTo>
                <a:cubicBezTo>
                  <a:pt x="19806" y="9409"/>
                  <a:pt x="19725" y="9495"/>
                  <a:pt x="19621" y="9624"/>
                </a:cubicBezTo>
                <a:cubicBezTo>
                  <a:pt x="19613" y="9632"/>
                  <a:pt x="19604" y="9641"/>
                  <a:pt x="19596" y="9649"/>
                </a:cubicBezTo>
                <a:cubicBezTo>
                  <a:pt x="19673" y="9649"/>
                  <a:pt x="19723" y="9684"/>
                  <a:pt x="19794" y="9699"/>
                </a:cubicBezTo>
                <a:cubicBezTo>
                  <a:pt x="19876" y="9716"/>
                  <a:pt x="19814" y="9705"/>
                  <a:pt x="19869" y="9723"/>
                </a:cubicBezTo>
              </a:path>
              <a:path w="1142" h="621">
                <a:moveTo>
                  <a:pt x="20042" y="9302"/>
                </a:moveTo>
                <a:cubicBezTo>
                  <a:pt x="20069" y="9408"/>
                  <a:pt x="20084" y="9552"/>
                  <a:pt x="20092" y="9674"/>
                </a:cubicBezTo>
                <a:cubicBezTo>
                  <a:pt x="20092" y="9748"/>
                  <a:pt x="20092" y="9757"/>
                  <a:pt x="20092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67760" y="3384720"/>
            <a:ext cx="142560" cy="8064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20464" y="9426"/>
                </a:moveTo>
                <a:cubicBezTo>
                  <a:pt x="20591" y="9426"/>
                  <a:pt x="20710" y="9407"/>
                  <a:pt x="20836" y="9401"/>
                </a:cubicBezTo>
                <a:cubicBezTo>
                  <a:pt x="20861" y="9401"/>
                  <a:pt x="20869" y="9401"/>
                  <a:pt x="20861" y="9426"/>
                </a:cubicBezTo>
              </a:path>
              <a:path w="398" h="224">
                <a:moveTo>
                  <a:pt x="20538" y="9599"/>
                </a:moveTo>
                <a:cubicBezTo>
                  <a:pt x="20643" y="9599"/>
                  <a:pt x="20735" y="9613"/>
                  <a:pt x="20836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34160" y="3313080"/>
            <a:ext cx="635040" cy="223920"/>
          </a:xfrm>
          <a:custGeom>
            <a:avLst/>
            <a:gdLst/>
            <a:ahLst/>
            <a:rect l="l" t="t" r="r" b="b"/>
            <a:pathLst>
              <a:path w="1762" h="621">
                <a:moveTo>
                  <a:pt x="21208" y="9426"/>
                </a:moveTo>
                <a:cubicBezTo>
                  <a:pt x="21218" y="9513"/>
                  <a:pt x="21228" y="9584"/>
                  <a:pt x="21233" y="9674"/>
                </a:cubicBezTo>
                <a:cubicBezTo>
                  <a:pt x="21233" y="9756"/>
                  <a:pt x="21209" y="9604"/>
                  <a:pt x="21233" y="9525"/>
                </a:cubicBezTo>
                <a:cubicBezTo>
                  <a:pt x="21296" y="9320"/>
                  <a:pt x="21464" y="9417"/>
                  <a:pt x="21530" y="9550"/>
                </a:cubicBezTo>
                <a:cubicBezTo>
                  <a:pt x="21551" y="9632"/>
                  <a:pt x="21559" y="9648"/>
                  <a:pt x="21555" y="9699"/>
                </a:cubicBezTo>
                <a:cubicBezTo>
                  <a:pt x="21555" y="9588"/>
                  <a:pt x="21549" y="9447"/>
                  <a:pt x="21679" y="9401"/>
                </a:cubicBezTo>
                <a:cubicBezTo>
                  <a:pt x="21833" y="9346"/>
                  <a:pt x="21848" y="9548"/>
                  <a:pt x="21853" y="9649"/>
                </a:cubicBezTo>
                <a:cubicBezTo>
                  <a:pt x="21853" y="9691"/>
                  <a:pt x="21853" y="9716"/>
                  <a:pt x="21853" y="9674"/>
                </a:cubicBezTo>
              </a:path>
              <a:path w="1762" h="621">
                <a:moveTo>
                  <a:pt x="22250" y="9277"/>
                </a:moveTo>
                <a:cubicBezTo>
                  <a:pt x="22186" y="9405"/>
                  <a:pt x="22118" y="9513"/>
                  <a:pt x="22027" y="9624"/>
                </a:cubicBezTo>
                <a:cubicBezTo>
                  <a:pt x="22130" y="9624"/>
                  <a:pt x="22224" y="9618"/>
                  <a:pt x="22324" y="9649"/>
                </a:cubicBezTo>
                <a:cubicBezTo>
                  <a:pt x="22368" y="9671"/>
                  <a:pt x="22380" y="9674"/>
                  <a:pt x="22399" y="9699"/>
                </a:cubicBezTo>
              </a:path>
              <a:path w="1762" h="621">
                <a:moveTo>
                  <a:pt x="22845" y="9203"/>
                </a:moveTo>
                <a:cubicBezTo>
                  <a:pt x="22777" y="9203"/>
                  <a:pt x="22675" y="9181"/>
                  <a:pt x="22647" y="9227"/>
                </a:cubicBezTo>
                <a:cubicBezTo>
                  <a:pt x="22601" y="9303"/>
                  <a:pt x="22572" y="9361"/>
                  <a:pt x="22572" y="9451"/>
                </a:cubicBezTo>
                <a:cubicBezTo>
                  <a:pt x="22640" y="9451"/>
                  <a:pt x="22790" y="9398"/>
                  <a:pt x="22845" y="9426"/>
                </a:cubicBezTo>
                <a:cubicBezTo>
                  <a:pt x="22989" y="9500"/>
                  <a:pt x="23015" y="9673"/>
                  <a:pt x="22895" y="9773"/>
                </a:cubicBezTo>
                <a:cubicBezTo>
                  <a:pt x="22803" y="9850"/>
                  <a:pt x="22706" y="9841"/>
                  <a:pt x="22622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05640" y="3714840"/>
            <a:ext cx="903240" cy="312480"/>
          </a:xfrm>
          <a:custGeom>
            <a:avLst/>
            <a:gdLst/>
            <a:ahLst/>
            <a:rect l="l" t="t" r="r" b="b"/>
            <a:pathLst>
              <a:path w="2506" h="869">
                <a:moveTo>
                  <a:pt x="16297" y="10492"/>
                </a:moveTo>
                <a:cubicBezTo>
                  <a:pt x="16380" y="10521"/>
                  <a:pt x="16036" y="10754"/>
                  <a:pt x="16024" y="10765"/>
                </a:cubicBezTo>
                <a:cubicBezTo>
                  <a:pt x="15928" y="10861"/>
                  <a:pt x="15922" y="10884"/>
                  <a:pt x="15850" y="10914"/>
                </a:cubicBezTo>
                <a:cubicBezTo>
                  <a:pt x="15948" y="10963"/>
                  <a:pt x="16039" y="10925"/>
                  <a:pt x="16148" y="10914"/>
                </a:cubicBezTo>
                <a:cubicBezTo>
                  <a:pt x="16173" y="10914"/>
                  <a:pt x="16197" y="10914"/>
                  <a:pt x="16222" y="10914"/>
                </a:cubicBezTo>
              </a:path>
              <a:path w="2506" h="869">
                <a:moveTo>
                  <a:pt x="16520" y="10542"/>
                </a:moveTo>
                <a:cubicBezTo>
                  <a:pt x="16492" y="10542"/>
                  <a:pt x="16481" y="10544"/>
                  <a:pt x="16470" y="10567"/>
                </a:cubicBezTo>
                <a:cubicBezTo>
                  <a:pt x="16481" y="10534"/>
                  <a:pt x="16590" y="10458"/>
                  <a:pt x="16644" y="10468"/>
                </a:cubicBezTo>
                <a:cubicBezTo>
                  <a:pt x="16835" y="10503"/>
                  <a:pt x="16763" y="10754"/>
                  <a:pt x="16669" y="10840"/>
                </a:cubicBezTo>
                <a:cubicBezTo>
                  <a:pt x="16631" y="10875"/>
                  <a:pt x="16427" y="11022"/>
                  <a:pt x="16470" y="10889"/>
                </a:cubicBezTo>
                <a:cubicBezTo>
                  <a:pt x="16620" y="10844"/>
                  <a:pt x="16697" y="10869"/>
                  <a:pt x="16818" y="10964"/>
                </a:cubicBezTo>
                <a:cubicBezTo>
                  <a:pt x="16846" y="10992"/>
                  <a:pt x="16854" y="11005"/>
                  <a:pt x="16842" y="11038"/>
                </a:cubicBezTo>
              </a:path>
              <a:path w="2506" h="869">
                <a:moveTo>
                  <a:pt x="17066" y="10988"/>
                </a:moveTo>
                <a:cubicBezTo>
                  <a:pt x="17083" y="11060"/>
                  <a:pt x="17090" y="11112"/>
                  <a:pt x="17090" y="11187"/>
                </a:cubicBezTo>
              </a:path>
              <a:path w="2506" h="869">
                <a:moveTo>
                  <a:pt x="17661" y="10393"/>
                </a:moveTo>
                <a:cubicBezTo>
                  <a:pt x="17766" y="10428"/>
                  <a:pt x="17590" y="10562"/>
                  <a:pt x="17512" y="10641"/>
                </a:cubicBezTo>
                <a:cubicBezTo>
                  <a:pt x="17395" y="10739"/>
                  <a:pt x="17374" y="10750"/>
                  <a:pt x="17314" y="10815"/>
                </a:cubicBezTo>
                <a:cubicBezTo>
                  <a:pt x="17470" y="10797"/>
                  <a:pt x="17561" y="10810"/>
                  <a:pt x="17711" y="10840"/>
                </a:cubicBezTo>
                <a:cubicBezTo>
                  <a:pt x="17719" y="10840"/>
                  <a:pt x="17727" y="10840"/>
                  <a:pt x="17735" y="10840"/>
                </a:cubicBezTo>
              </a:path>
              <a:path w="2506" h="869">
                <a:moveTo>
                  <a:pt x="17959" y="10319"/>
                </a:moveTo>
                <a:cubicBezTo>
                  <a:pt x="17993" y="10441"/>
                  <a:pt x="17854" y="10584"/>
                  <a:pt x="17909" y="10716"/>
                </a:cubicBezTo>
                <a:cubicBezTo>
                  <a:pt x="17958" y="10832"/>
                  <a:pt x="18236" y="10808"/>
                  <a:pt x="18306" y="10740"/>
                </a:cubicBezTo>
                <a:cubicBezTo>
                  <a:pt x="18346" y="10659"/>
                  <a:pt x="18362" y="10647"/>
                  <a:pt x="18355" y="10592"/>
                </a:cubicBezTo>
                <a:cubicBezTo>
                  <a:pt x="18205" y="10607"/>
                  <a:pt x="18144" y="10636"/>
                  <a:pt x="18107" y="10790"/>
                </a:cubicBezTo>
                <a:cubicBezTo>
                  <a:pt x="18107" y="10807"/>
                  <a:pt x="18107" y="10823"/>
                  <a:pt x="18107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02280" y="3705120"/>
            <a:ext cx="1135080" cy="189000"/>
          </a:xfrm>
          <a:custGeom>
            <a:avLst/>
            <a:gdLst/>
            <a:ahLst/>
            <a:rect l="l" t="t" r="r" b="b"/>
            <a:pathLst>
              <a:path w="3151" h="522">
                <a:moveTo>
                  <a:pt x="19174" y="10592"/>
                </a:moveTo>
                <a:cubicBezTo>
                  <a:pt x="19187" y="10674"/>
                  <a:pt x="19199" y="10707"/>
                  <a:pt x="19199" y="10790"/>
                </a:cubicBezTo>
                <a:cubicBezTo>
                  <a:pt x="19209" y="10722"/>
                  <a:pt x="19229" y="10516"/>
                  <a:pt x="19348" y="10542"/>
                </a:cubicBezTo>
                <a:cubicBezTo>
                  <a:pt x="19494" y="10574"/>
                  <a:pt x="19500" y="10674"/>
                  <a:pt x="19521" y="10790"/>
                </a:cubicBezTo>
                <a:cubicBezTo>
                  <a:pt x="19531" y="10698"/>
                  <a:pt x="19619" y="10409"/>
                  <a:pt x="19745" y="10641"/>
                </a:cubicBezTo>
                <a:cubicBezTo>
                  <a:pt x="19765" y="10742"/>
                  <a:pt x="19783" y="10762"/>
                  <a:pt x="19745" y="10815"/>
                </a:cubicBezTo>
              </a:path>
              <a:path w="3151" h="522">
                <a:moveTo>
                  <a:pt x="20191" y="10294"/>
                </a:moveTo>
                <a:cubicBezTo>
                  <a:pt x="20132" y="10412"/>
                  <a:pt x="20070" y="10508"/>
                  <a:pt x="19993" y="10616"/>
                </a:cubicBezTo>
                <a:cubicBezTo>
                  <a:pt x="20068" y="10659"/>
                  <a:pt x="20140" y="10724"/>
                  <a:pt x="20216" y="10765"/>
                </a:cubicBezTo>
                <a:cubicBezTo>
                  <a:pt x="20241" y="10765"/>
                  <a:pt x="20249" y="10765"/>
                  <a:pt x="20241" y="10740"/>
                </a:cubicBezTo>
              </a:path>
              <a:path w="3151" h="522">
                <a:moveTo>
                  <a:pt x="20365" y="10393"/>
                </a:moveTo>
                <a:cubicBezTo>
                  <a:pt x="20385" y="10288"/>
                  <a:pt x="20512" y="10262"/>
                  <a:pt x="20613" y="10294"/>
                </a:cubicBezTo>
                <a:cubicBezTo>
                  <a:pt x="20827" y="10361"/>
                  <a:pt x="20521" y="10669"/>
                  <a:pt x="20464" y="10716"/>
                </a:cubicBezTo>
                <a:cubicBezTo>
                  <a:pt x="20447" y="10724"/>
                  <a:pt x="20431" y="10732"/>
                  <a:pt x="20414" y="10740"/>
                </a:cubicBezTo>
                <a:cubicBezTo>
                  <a:pt x="20508" y="10740"/>
                  <a:pt x="20565" y="10708"/>
                  <a:pt x="20662" y="10740"/>
                </a:cubicBezTo>
                <a:cubicBezTo>
                  <a:pt x="20739" y="10766"/>
                  <a:pt x="20665" y="10777"/>
                  <a:pt x="20786" y="10740"/>
                </a:cubicBezTo>
              </a:path>
              <a:path w="3151" h="522">
                <a:moveTo>
                  <a:pt x="20960" y="10468"/>
                </a:moveTo>
                <a:cubicBezTo>
                  <a:pt x="21027" y="10468"/>
                  <a:pt x="21071" y="10472"/>
                  <a:pt x="21134" y="10492"/>
                </a:cubicBezTo>
              </a:path>
              <a:path w="3151" h="522">
                <a:moveTo>
                  <a:pt x="20960" y="10616"/>
                </a:moveTo>
                <a:cubicBezTo>
                  <a:pt x="21058" y="10641"/>
                  <a:pt x="21085" y="10641"/>
                  <a:pt x="21183" y="10616"/>
                </a:cubicBezTo>
              </a:path>
              <a:path w="3151" h="522">
                <a:moveTo>
                  <a:pt x="21183" y="10616"/>
                </a:moveTo>
                <a:lnTo>
                  <a:pt x="21183" y="10616"/>
                </a:lnTo>
              </a:path>
              <a:path w="3151" h="522">
                <a:moveTo>
                  <a:pt x="21729" y="10294"/>
                </a:moveTo>
                <a:cubicBezTo>
                  <a:pt x="21638" y="10457"/>
                  <a:pt x="21558" y="10580"/>
                  <a:pt x="21406" y="10691"/>
                </a:cubicBezTo>
                <a:cubicBezTo>
                  <a:pt x="21538" y="10728"/>
                  <a:pt x="21666" y="10758"/>
                  <a:pt x="21803" y="10765"/>
                </a:cubicBezTo>
                <a:cubicBezTo>
                  <a:pt x="21828" y="10765"/>
                  <a:pt x="21836" y="10765"/>
                  <a:pt x="21853" y="10765"/>
                </a:cubicBezTo>
              </a:path>
              <a:path w="3151" h="522">
                <a:moveTo>
                  <a:pt x="21233" y="10368"/>
                </a:moveTo>
                <a:cubicBezTo>
                  <a:pt x="21233" y="10436"/>
                  <a:pt x="21217" y="10450"/>
                  <a:pt x="21208" y="10517"/>
                </a:cubicBezTo>
                <a:cubicBezTo>
                  <a:pt x="21217" y="10434"/>
                  <a:pt x="21229" y="10265"/>
                  <a:pt x="21332" y="10368"/>
                </a:cubicBezTo>
                <a:cubicBezTo>
                  <a:pt x="21370" y="10425"/>
                  <a:pt x="21387" y="10428"/>
                  <a:pt x="21382" y="10468"/>
                </a:cubicBezTo>
                <a:cubicBezTo>
                  <a:pt x="21382" y="10407"/>
                  <a:pt x="21413" y="10259"/>
                  <a:pt x="21506" y="10294"/>
                </a:cubicBezTo>
                <a:cubicBezTo>
                  <a:pt x="21566" y="10317"/>
                  <a:pt x="21573" y="10446"/>
                  <a:pt x="21580" y="10492"/>
                </a:cubicBezTo>
              </a:path>
              <a:path w="3151" h="522">
                <a:moveTo>
                  <a:pt x="21977" y="10344"/>
                </a:moveTo>
                <a:cubicBezTo>
                  <a:pt x="21977" y="10336"/>
                  <a:pt x="21977" y="10327"/>
                  <a:pt x="21977" y="10319"/>
                </a:cubicBezTo>
                <a:cubicBezTo>
                  <a:pt x="22037" y="10299"/>
                  <a:pt x="22044" y="10300"/>
                  <a:pt x="22002" y="10443"/>
                </a:cubicBezTo>
                <a:cubicBezTo>
                  <a:pt x="21968" y="10557"/>
                  <a:pt x="21869" y="10768"/>
                  <a:pt x="22101" y="10740"/>
                </a:cubicBezTo>
                <a:cubicBezTo>
                  <a:pt x="22252" y="10722"/>
                  <a:pt x="22289" y="10630"/>
                  <a:pt x="22324" y="10517"/>
                </a:cubicBezTo>
                <a:cubicBezTo>
                  <a:pt x="22267" y="10534"/>
                  <a:pt x="22035" y="10640"/>
                  <a:pt x="22151" y="10740"/>
                </a:cubicBezTo>
                <a:cubicBezTo>
                  <a:pt x="22159" y="10732"/>
                  <a:pt x="22167" y="10724"/>
                  <a:pt x="22175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69000" y="4197240"/>
            <a:ext cx="660240" cy="250920"/>
          </a:xfrm>
          <a:custGeom>
            <a:avLst/>
            <a:gdLst/>
            <a:ahLst/>
            <a:rect l="l" t="t" r="r" b="b"/>
            <a:pathLst>
              <a:path w="1836" h="696">
                <a:moveTo>
                  <a:pt x="16396" y="11658"/>
                </a:moveTo>
                <a:cubicBezTo>
                  <a:pt x="16345" y="11834"/>
                  <a:pt x="16198" y="11951"/>
                  <a:pt x="16073" y="12080"/>
                </a:cubicBezTo>
                <a:cubicBezTo>
                  <a:pt x="16057" y="12096"/>
                  <a:pt x="16040" y="12113"/>
                  <a:pt x="16024" y="12129"/>
                </a:cubicBezTo>
                <a:cubicBezTo>
                  <a:pt x="16176" y="12129"/>
                  <a:pt x="16326" y="12128"/>
                  <a:pt x="16470" y="12154"/>
                </a:cubicBezTo>
                <a:cubicBezTo>
                  <a:pt x="16495" y="12154"/>
                  <a:pt x="16503" y="12154"/>
                  <a:pt x="16520" y="12154"/>
                </a:cubicBezTo>
              </a:path>
              <a:path w="1836" h="696">
                <a:moveTo>
                  <a:pt x="16743" y="11708"/>
                </a:moveTo>
                <a:cubicBezTo>
                  <a:pt x="16794" y="11678"/>
                  <a:pt x="16966" y="11599"/>
                  <a:pt x="16966" y="11733"/>
                </a:cubicBezTo>
                <a:cubicBezTo>
                  <a:pt x="16966" y="11814"/>
                  <a:pt x="16871" y="11879"/>
                  <a:pt x="16818" y="11906"/>
                </a:cubicBezTo>
                <a:cubicBezTo>
                  <a:pt x="16909" y="11906"/>
                  <a:pt x="17002" y="11902"/>
                  <a:pt x="16991" y="12030"/>
                </a:cubicBezTo>
                <a:cubicBezTo>
                  <a:pt x="16982" y="12137"/>
                  <a:pt x="16750" y="12313"/>
                  <a:pt x="16669" y="12179"/>
                </a:cubicBezTo>
                <a:cubicBezTo>
                  <a:pt x="16669" y="12154"/>
                  <a:pt x="16669" y="12130"/>
                  <a:pt x="16669" y="12105"/>
                </a:cubicBezTo>
              </a:path>
              <a:path w="1836" h="696">
                <a:moveTo>
                  <a:pt x="17190" y="12179"/>
                </a:moveTo>
                <a:cubicBezTo>
                  <a:pt x="17185" y="12202"/>
                  <a:pt x="17115" y="12427"/>
                  <a:pt x="17190" y="12303"/>
                </a:cubicBezTo>
              </a:path>
              <a:path w="1836" h="696">
                <a:moveTo>
                  <a:pt x="17711" y="11708"/>
                </a:moveTo>
                <a:cubicBezTo>
                  <a:pt x="17646" y="11838"/>
                  <a:pt x="17566" y="11926"/>
                  <a:pt x="17462" y="12030"/>
                </a:cubicBezTo>
                <a:cubicBezTo>
                  <a:pt x="17591" y="12036"/>
                  <a:pt x="17709" y="12069"/>
                  <a:pt x="17835" y="12080"/>
                </a:cubicBezTo>
                <a:cubicBezTo>
                  <a:pt x="17859" y="12080"/>
                  <a:pt x="17867" y="12080"/>
                  <a:pt x="17859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1880" y="4133880"/>
            <a:ext cx="160200" cy="189000"/>
          </a:xfrm>
          <a:custGeom>
            <a:avLst/>
            <a:gdLst/>
            <a:ahLst/>
            <a:rect l="l" t="t" r="r" b="b"/>
            <a:pathLst>
              <a:path w="448" h="521">
                <a:moveTo>
                  <a:pt x="18281" y="11584"/>
                </a:moveTo>
                <a:cubicBezTo>
                  <a:pt x="18391" y="11535"/>
                  <a:pt x="18600" y="11479"/>
                  <a:pt x="18728" y="11485"/>
                </a:cubicBezTo>
                <a:cubicBezTo>
                  <a:pt x="18728" y="11493"/>
                  <a:pt x="18728" y="11501"/>
                  <a:pt x="18728" y="11509"/>
                </a:cubicBezTo>
                <a:cubicBezTo>
                  <a:pt x="18650" y="11677"/>
                  <a:pt x="18561" y="11826"/>
                  <a:pt x="18504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45200" y="4116240"/>
            <a:ext cx="1384560" cy="241560"/>
          </a:xfrm>
          <a:custGeom>
            <a:avLst/>
            <a:gdLst/>
            <a:ahLst/>
            <a:rect l="l" t="t" r="r" b="b"/>
            <a:pathLst>
              <a:path w="3846" h="671">
                <a:moveTo>
                  <a:pt x="19571" y="11807"/>
                </a:moveTo>
                <a:cubicBezTo>
                  <a:pt x="19581" y="11908"/>
                  <a:pt x="19596" y="12002"/>
                  <a:pt x="19596" y="12105"/>
                </a:cubicBezTo>
                <a:cubicBezTo>
                  <a:pt x="19596" y="12204"/>
                  <a:pt x="19608" y="11879"/>
                  <a:pt x="19695" y="11832"/>
                </a:cubicBezTo>
                <a:cubicBezTo>
                  <a:pt x="19880" y="11733"/>
                  <a:pt x="19914" y="12080"/>
                  <a:pt x="19918" y="12080"/>
                </a:cubicBezTo>
                <a:cubicBezTo>
                  <a:pt x="20022" y="12076"/>
                  <a:pt x="19938" y="11820"/>
                  <a:pt x="20042" y="11807"/>
                </a:cubicBezTo>
                <a:cubicBezTo>
                  <a:pt x="20157" y="11793"/>
                  <a:pt x="20216" y="12008"/>
                  <a:pt x="20216" y="11981"/>
                </a:cubicBezTo>
              </a:path>
              <a:path w="3846" h="671">
                <a:moveTo>
                  <a:pt x="20662" y="11584"/>
                </a:moveTo>
                <a:cubicBezTo>
                  <a:pt x="20594" y="11707"/>
                  <a:pt x="20525" y="11857"/>
                  <a:pt x="20414" y="11931"/>
                </a:cubicBezTo>
                <a:cubicBezTo>
                  <a:pt x="20503" y="11959"/>
                  <a:pt x="20596" y="12000"/>
                  <a:pt x="20687" y="12005"/>
                </a:cubicBezTo>
                <a:cubicBezTo>
                  <a:pt x="20739" y="12005"/>
                  <a:pt x="20757" y="12004"/>
                  <a:pt x="20786" y="11981"/>
                </a:cubicBezTo>
              </a:path>
              <a:path w="3846" h="671">
                <a:moveTo>
                  <a:pt x="20910" y="11584"/>
                </a:moveTo>
                <a:cubicBezTo>
                  <a:pt x="20988" y="11558"/>
                  <a:pt x="21210" y="11523"/>
                  <a:pt x="21059" y="11683"/>
                </a:cubicBezTo>
                <a:cubicBezTo>
                  <a:pt x="21034" y="11700"/>
                  <a:pt x="21010" y="11716"/>
                  <a:pt x="20985" y="11733"/>
                </a:cubicBezTo>
                <a:cubicBezTo>
                  <a:pt x="21073" y="11733"/>
                  <a:pt x="21240" y="11774"/>
                  <a:pt x="21134" y="11906"/>
                </a:cubicBezTo>
                <a:cubicBezTo>
                  <a:pt x="21048" y="12013"/>
                  <a:pt x="20925" y="11963"/>
                  <a:pt x="20836" y="11931"/>
                </a:cubicBezTo>
              </a:path>
              <a:path w="3846" h="671">
                <a:moveTo>
                  <a:pt x="21332" y="11633"/>
                </a:moveTo>
                <a:cubicBezTo>
                  <a:pt x="21430" y="11638"/>
                  <a:pt x="21496" y="11623"/>
                  <a:pt x="21555" y="11683"/>
                </a:cubicBezTo>
              </a:path>
              <a:path w="3846" h="671">
                <a:moveTo>
                  <a:pt x="21282" y="11881"/>
                </a:moveTo>
                <a:cubicBezTo>
                  <a:pt x="21433" y="11857"/>
                  <a:pt x="21485" y="11848"/>
                  <a:pt x="21580" y="11807"/>
                </a:cubicBezTo>
              </a:path>
              <a:path w="3846" h="671">
                <a:moveTo>
                  <a:pt x="21580" y="11807"/>
                </a:moveTo>
                <a:lnTo>
                  <a:pt x="21580" y="11807"/>
                </a:lnTo>
              </a:path>
              <a:path w="3846" h="671">
                <a:moveTo>
                  <a:pt x="21828" y="11757"/>
                </a:moveTo>
                <a:cubicBezTo>
                  <a:pt x="21828" y="11840"/>
                  <a:pt x="21828" y="11856"/>
                  <a:pt x="21828" y="11906"/>
                </a:cubicBezTo>
                <a:cubicBezTo>
                  <a:pt x="21835" y="11860"/>
                  <a:pt x="21876" y="11615"/>
                  <a:pt x="21977" y="11683"/>
                </a:cubicBezTo>
                <a:cubicBezTo>
                  <a:pt x="22046" y="11775"/>
                  <a:pt x="22071" y="11800"/>
                  <a:pt x="22051" y="11881"/>
                </a:cubicBezTo>
                <a:cubicBezTo>
                  <a:pt x="22062" y="11839"/>
                  <a:pt x="22113" y="11691"/>
                  <a:pt x="22175" y="11708"/>
                </a:cubicBezTo>
                <a:cubicBezTo>
                  <a:pt x="22267" y="11734"/>
                  <a:pt x="22392" y="11999"/>
                  <a:pt x="22324" y="11931"/>
                </a:cubicBezTo>
                <a:cubicBezTo>
                  <a:pt x="22316" y="11914"/>
                  <a:pt x="22307" y="11898"/>
                  <a:pt x="22299" y="11881"/>
                </a:cubicBezTo>
              </a:path>
              <a:path w="3846" h="671">
                <a:moveTo>
                  <a:pt x="22696" y="11460"/>
                </a:moveTo>
                <a:cubicBezTo>
                  <a:pt x="22653" y="11589"/>
                  <a:pt x="22610" y="11701"/>
                  <a:pt x="22523" y="11807"/>
                </a:cubicBezTo>
                <a:cubicBezTo>
                  <a:pt x="22631" y="11823"/>
                  <a:pt x="22738" y="11840"/>
                  <a:pt x="22845" y="11857"/>
                </a:cubicBezTo>
                <a:cubicBezTo>
                  <a:pt x="22853" y="11857"/>
                  <a:pt x="22862" y="11857"/>
                  <a:pt x="22870" y="11857"/>
                </a:cubicBezTo>
              </a:path>
              <a:path w="3846" h="671">
                <a:moveTo>
                  <a:pt x="22994" y="11485"/>
                </a:moveTo>
                <a:cubicBezTo>
                  <a:pt x="23138" y="11439"/>
                  <a:pt x="23274" y="11407"/>
                  <a:pt x="23416" y="11460"/>
                </a:cubicBezTo>
                <a:cubicBezTo>
                  <a:pt x="23416" y="11596"/>
                  <a:pt x="23398" y="11732"/>
                  <a:pt x="23341" y="11857"/>
                </a:cubicBezTo>
                <a:cubicBezTo>
                  <a:pt x="23302" y="11916"/>
                  <a:pt x="23298" y="11928"/>
                  <a:pt x="23267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13280" y="4626000"/>
            <a:ext cx="874800" cy="330120"/>
          </a:xfrm>
          <a:custGeom>
            <a:avLst/>
            <a:gdLst/>
            <a:ahLst/>
            <a:rect l="l" t="t" r="r" b="b"/>
            <a:pathLst>
              <a:path w="2432" h="919">
                <a:moveTo>
                  <a:pt x="16495" y="12998"/>
                </a:moveTo>
                <a:cubicBezTo>
                  <a:pt x="16386" y="13144"/>
                  <a:pt x="16254" y="13274"/>
                  <a:pt x="16148" y="13419"/>
                </a:cubicBezTo>
                <a:cubicBezTo>
                  <a:pt x="16305" y="13419"/>
                  <a:pt x="16462" y="13419"/>
                  <a:pt x="16619" y="13419"/>
                </a:cubicBezTo>
              </a:path>
              <a:path w="2432" h="919">
                <a:moveTo>
                  <a:pt x="16768" y="13047"/>
                </a:moveTo>
                <a:cubicBezTo>
                  <a:pt x="16738" y="13124"/>
                  <a:pt x="16706" y="13197"/>
                  <a:pt x="16669" y="13271"/>
                </a:cubicBezTo>
                <a:cubicBezTo>
                  <a:pt x="16842" y="13271"/>
                  <a:pt x="17000" y="13316"/>
                  <a:pt x="17066" y="13196"/>
                </a:cubicBezTo>
              </a:path>
              <a:path w="2432" h="919">
                <a:moveTo>
                  <a:pt x="16991" y="12898"/>
                </a:moveTo>
                <a:cubicBezTo>
                  <a:pt x="16975" y="13071"/>
                  <a:pt x="16953" y="13245"/>
                  <a:pt x="16942" y="13419"/>
                </a:cubicBezTo>
                <a:cubicBezTo>
                  <a:pt x="16942" y="13494"/>
                  <a:pt x="16942" y="13502"/>
                  <a:pt x="16942" y="13543"/>
                </a:cubicBezTo>
              </a:path>
              <a:path w="2432" h="919">
                <a:moveTo>
                  <a:pt x="17289" y="13519"/>
                </a:moveTo>
                <a:cubicBezTo>
                  <a:pt x="17250" y="13666"/>
                  <a:pt x="17267" y="13793"/>
                  <a:pt x="17115" y="13717"/>
                </a:cubicBezTo>
              </a:path>
              <a:path w="2432" h="919">
                <a:moveTo>
                  <a:pt x="17859" y="12898"/>
                </a:moveTo>
                <a:cubicBezTo>
                  <a:pt x="17802" y="13102"/>
                  <a:pt x="17711" y="13224"/>
                  <a:pt x="17587" y="13395"/>
                </a:cubicBezTo>
                <a:cubicBezTo>
                  <a:pt x="17706" y="13395"/>
                  <a:pt x="17816" y="13406"/>
                  <a:pt x="17934" y="13419"/>
                </a:cubicBezTo>
                <a:cubicBezTo>
                  <a:pt x="17994" y="13426"/>
                  <a:pt x="17996" y="13407"/>
                  <a:pt x="18058" y="13370"/>
                </a:cubicBezTo>
              </a:path>
              <a:path w="2432" h="919">
                <a:moveTo>
                  <a:pt x="18529" y="12849"/>
                </a:moveTo>
                <a:cubicBezTo>
                  <a:pt x="18414" y="12901"/>
                  <a:pt x="18338" y="12931"/>
                  <a:pt x="18256" y="13022"/>
                </a:cubicBezTo>
                <a:cubicBezTo>
                  <a:pt x="18345" y="13111"/>
                  <a:pt x="18620" y="13308"/>
                  <a:pt x="18529" y="13469"/>
                </a:cubicBezTo>
                <a:cubicBezTo>
                  <a:pt x="18496" y="13486"/>
                  <a:pt x="18463" y="13502"/>
                  <a:pt x="18430" y="13519"/>
                </a:cubicBezTo>
                <a:cubicBezTo>
                  <a:pt x="18224" y="13381"/>
                  <a:pt x="18398" y="13233"/>
                  <a:pt x="18529" y="13047"/>
                </a:cubicBezTo>
                <a:cubicBezTo>
                  <a:pt x="18546" y="13022"/>
                  <a:pt x="18562" y="12998"/>
                  <a:pt x="18579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62840" y="4606920"/>
            <a:ext cx="1457280" cy="287280"/>
          </a:xfrm>
          <a:custGeom>
            <a:avLst/>
            <a:gdLst/>
            <a:ahLst/>
            <a:rect l="l" t="t" r="r" b="b"/>
            <a:pathLst>
              <a:path w="4044" h="795">
                <a:moveTo>
                  <a:pt x="19621" y="13221"/>
                </a:moveTo>
                <a:cubicBezTo>
                  <a:pt x="19659" y="13340"/>
                  <a:pt x="19630" y="13463"/>
                  <a:pt x="19621" y="13593"/>
                </a:cubicBezTo>
                <a:cubicBezTo>
                  <a:pt x="19645" y="13491"/>
                  <a:pt x="19699" y="13339"/>
                  <a:pt x="19794" y="13271"/>
                </a:cubicBezTo>
                <a:cubicBezTo>
                  <a:pt x="19928" y="13175"/>
                  <a:pt x="19928" y="13495"/>
                  <a:pt x="19918" y="13543"/>
                </a:cubicBezTo>
                <a:cubicBezTo>
                  <a:pt x="19930" y="13490"/>
                  <a:pt x="20012" y="13241"/>
                  <a:pt x="20092" y="13271"/>
                </a:cubicBezTo>
                <a:cubicBezTo>
                  <a:pt x="20185" y="13306"/>
                  <a:pt x="20152" y="13459"/>
                  <a:pt x="20141" y="13519"/>
                </a:cubicBezTo>
              </a:path>
              <a:path w="4044" h="795">
                <a:moveTo>
                  <a:pt x="20563" y="13097"/>
                </a:moveTo>
                <a:cubicBezTo>
                  <a:pt x="20490" y="13268"/>
                  <a:pt x="20468" y="13323"/>
                  <a:pt x="20389" y="13419"/>
                </a:cubicBezTo>
                <a:cubicBezTo>
                  <a:pt x="20465" y="13419"/>
                  <a:pt x="20664" y="13458"/>
                  <a:pt x="20712" y="13444"/>
                </a:cubicBezTo>
                <a:cubicBezTo>
                  <a:pt x="20712" y="13398"/>
                  <a:pt x="20730" y="13378"/>
                  <a:pt x="20786" y="13370"/>
                </a:cubicBezTo>
              </a:path>
              <a:path w="4044" h="795">
                <a:moveTo>
                  <a:pt x="20886" y="13146"/>
                </a:moveTo>
                <a:cubicBezTo>
                  <a:pt x="20851" y="13207"/>
                  <a:pt x="20837" y="13198"/>
                  <a:pt x="20861" y="13246"/>
                </a:cubicBezTo>
                <a:cubicBezTo>
                  <a:pt x="20977" y="13290"/>
                  <a:pt x="21051" y="13279"/>
                  <a:pt x="21134" y="13196"/>
                </a:cubicBezTo>
              </a:path>
              <a:path w="4044" h="795">
                <a:moveTo>
                  <a:pt x="21183" y="12948"/>
                </a:moveTo>
                <a:cubicBezTo>
                  <a:pt x="21133" y="13093"/>
                  <a:pt x="21061" y="13320"/>
                  <a:pt x="21084" y="13469"/>
                </a:cubicBezTo>
                <a:cubicBezTo>
                  <a:pt x="21092" y="13469"/>
                  <a:pt x="21101" y="13469"/>
                  <a:pt x="21109" y="13469"/>
                </a:cubicBezTo>
              </a:path>
              <a:path w="4044" h="795">
                <a:moveTo>
                  <a:pt x="21481" y="13146"/>
                </a:moveTo>
                <a:cubicBezTo>
                  <a:pt x="21578" y="13133"/>
                  <a:pt x="21680" y="13088"/>
                  <a:pt x="21679" y="13146"/>
                </a:cubicBezTo>
              </a:path>
              <a:path w="4044" h="795">
                <a:moveTo>
                  <a:pt x="21481" y="13320"/>
                </a:moveTo>
                <a:cubicBezTo>
                  <a:pt x="21647" y="13320"/>
                  <a:pt x="21711" y="13312"/>
                  <a:pt x="21803" y="13221"/>
                </a:cubicBezTo>
              </a:path>
              <a:path w="4044" h="795">
                <a:moveTo>
                  <a:pt x="21803" y="13221"/>
                </a:moveTo>
                <a:lnTo>
                  <a:pt x="21803" y="13221"/>
                </a:lnTo>
              </a:path>
              <a:path w="4044" h="795">
                <a:moveTo>
                  <a:pt x="22027" y="13171"/>
                </a:moveTo>
                <a:cubicBezTo>
                  <a:pt x="22027" y="13288"/>
                  <a:pt x="22025" y="13322"/>
                  <a:pt x="22051" y="13395"/>
                </a:cubicBezTo>
                <a:cubicBezTo>
                  <a:pt x="22057" y="13358"/>
                  <a:pt x="22099" y="13131"/>
                  <a:pt x="22175" y="13196"/>
                </a:cubicBezTo>
                <a:cubicBezTo>
                  <a:pt x="22203" y="13281"/>
                  <a:pt x="22216" y="13316"/>
                  <a:pt x="22250" y="13370"/>
                </a:cubicBezTo>
                <a:cubicBezTo>
                  <a:pt x="22263" y="13295"/>
                  <a:pt x="22311" y="13146"/>
                  <a:pt x="22423" y="13196"/>
                </a:cubicBezTo>
                <a:cubicBezTo>
                  <a:pt x="22518" y="13238"/>
                  <a:pt x="22523" y="13469"/>
                  <a:pt x="22523" y="13370"/>
                </a:cubicBezTo>
              </a:path>
              <a:path w="4044" h="795">
                <a:moveTo>
                  <a:pt x="22920" y="12973"/>
                </a:moveTo>
                <a:cubicBezTo>
                  <a:pt x="22881" y="13066"/>
                  <a:pt x="22840" y="13155"/>
                  <a:pt x="22796" y="13246"/>
                </a:cubicBezTo>
                <a:cubicBezTo>
                  <a:pt x="22919" y="13280"/>
                  <a:pt x="23060" y="13289"/>
                  <a:pt x="23192" y="13295"/>
                </a:cubicBezTo>
                <a:cubicBezTo>
                  <a:pt x="23200" y="13295"/>
                  <a:pt x="23209" y="13295"/>
                  <a:pt x="23217" y="13295"/>
                </a:cubicBezTo>
              </a:path>
              <a:path w="4044" h="795">
                <a:moveTo>
                  <a:pt x="23639" y="12799"/>
                </a:moveTo>
                <a:cubicBezTo>
                  <a:pt x="23494" y="12820"/>
                  <a:pt x="23459" y="12812"/>
                  <a:pt x="23391" y="12874"/>
                </a:cubicBezTo>
                <a:cubicBezTo>
                  <a:pt x="23472" y="13048"/>
                  <a:pt x="23555" y="13110"/>
                  <a:pt x="23564" y="13295"/>
                </a:cubicBezTo>
                <a:cubicBezTo>
                  <a:pt x="23366" y="13331"/>
                  <a:pt x="23421" y="13154"/>
                  <a:pt x="23515" y="13022"/>
                </a:cubicBezTo>
                <a:cubicBezTo>
                  <a:pt x="23567" y="12948"/>
                  <a:pt x="23703" y="12837"/>
                  <a:pt x="23614" y="12849"/>
                </a:cubicBezTo>
                <a:cubicBezTo>
                  <a:pt x="23573" y="12857"/>
                  <a:pt x="23531" y="12866"/>
                  <a:pt x="23490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27320" y="5232240"/>
            <a:ext cx="384480" cy="152640"/>
          </a:xfrm>
          <a:custGeom>
            <a:avLst/>
            <a:gdLst/>
            <a:ahLst/>
            <a:rect l="l" t="t" r="r" b="b"/>
            <a:pathLst>
              <a:path w="1068" h="422">
                <a:moveTo>
                  <a:pt x="11212" y="14759"/>
                </a:moveTo>
                <a:lnTo>
                  <a:pt x="11212" y="14759"/>
                </a:lnTo>
                <a:lnTo>
                  <a:pt x="11212" y="14759"/>
                </a:lnTo>
              </a:path>
              <a:path w="1068" h="422">
                <a:moveTo>
                  <a:pt x="11212" y="14759"/>
                </a:moveTo>
                <a:lnTo>
                  <a:pt x="11212" y="14759"/>
                </a:lnTo>
              </a:path>
              <a:path w="1068" h="422">
                <a:moveTo>
                  <a:pt x="11212" y="14734"/>
                </a:moveTo>
                <a:lnTo>
                  <a:pt x="11212" y="14734"/>
                </a:lnTo>
              </a:path>
              <a:path w="1068" h="422">
                <a:moveTo>
                  <a:pt x="11212" y="14759"/>
                </a:moveTo>
                <a:lnTo>
                  <a:pt x="11212" y="14759"/>
                </a:lnTo>
              </a:path>
              <a:path w="1068" h="422">
                <a:moveTo>
                  <a:pt x="11212" y="14784"/>
                </a:moveTo>
                <a:cubicBezTo>
                  <a:pt x="11242" y="14844"/>
                  <a:pt x="11273" y="14895"/>
                  <a:pt x="11286" y="14957"/>
                </a:cubicBezTo>
                <a:cubicBezTo>
                  <a:pt x="11286" y="14872"/>
                  <a:pt x="11255" y="14754"/>
                  <a:pt x="11212" y="14684"/>
                </a:cubicBezTo>
                <a:cubicBezTo>
                  <a:pt x="11187" y="14684"/>
                  <a:pt x="11179" y="14684"/>
                  <a:pt x="11187" y="14660"/>
                </a:cubicBezTo>
                <a:cubicBezTo>
                  <a:pt x="11260" y="14632"/>
                  <a:pt x="11322" y="14606"/>
                  <a:pt x="11385" y="14560"/>
                </a:cubicBezTo>
              </a:path>
              <a:path w="1068" h="422">
                <a:moveTo>
                  <a:pt x="11237" y="14833"/>
                </a:moveTo>
                <a:cubicBezTo>
                  <a:pt x="11294" y="14817"/>
                  <a:pt x="11354" y="14795"/>
                  <a:pt x="11410" y="14784"/>
                </a:cubicBezTo>
              </a:path>
              <a:path w="1068" h="422">
                <a:moveTo>
                  <a:pt x="11559" y="14734"/>
                </a:moveTo>
                <a:cubicBezTo>
                  <a:pt x="11543" y="14786"/>
                  <a:pt x="11476" y="14984"/>
                  <a:pt x="11609" y="14957"/>
                </a:cubicBezTo>
                <a:cubicBezTo>
                  <a:pt x="11808" y="14917"/>
                  <a:pt x="11603" y="14813"/>
                  <a:pt x="11609" y="14784"/>
                </a:cubicBezTo>
                <a:cubicBezTo>
                  <a:pt x="11625" y="14767"/>
                  <a:pt x="11642" y="14751"/>
                  <a:pt x="11658" y="14734"/>
                </a:cubicBezTo>
              </a:path>
              <a:path w="1068" h="422">
                <a:moveTo>
                  <a:pt x="11857" y="14684"/>
                </a:moveTo>
                <a:cubicBezTo>
                  <a:pt x="11832" y="14747"/>
                  <a:pt x="11748" y="14934"/>
                  <a:pt x="11906" y="14883"/>
                </a:cubicBezTo>
                <a:cubicBezTo>
                  <a:pt x="12051" y="14836"/>
                  <a:pt x="11945" y="14771"/>
                  <a:pt x="11881" y="14734"/>
                </a:cubicBezTo>
              </a:path>
              <a:path w="1068" h="422">
                <a:moveTo>
                  <a:pt x="12129" y="14660"/>
                </a:moveTo>
                <a:cubicBezTo>
                  <a:pt x="12096" y="14698"/>
                  <a:pt x="11924" y="14893"/>
                  <a:pt x="12080" y="14908"/>
                </a:cubicBezTo>
                <a:cubicBezTo>
                  <a:pt x="12152" y="14884"/>
                  <a:pt x="12175" y="14877"/>
                  <a:pt x="12204" y="14833"/>
                </a:cubicBezTo>
              </a:path>
              <a:path w="1068" h="422">
                <a:moveTo>
                  <a:pt x="12105" y="14536"/>
                </a:moveTo>
                <a:cubicBezTo>
                  <a:pt x="12154" y="14644"/>
                  <a:pt x="12201" y="14752"/>
                  <a:pt x="12254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aramond"/>
              </a:rPr>
              <a:t>Students will identify Complimentary, Supplementary, Vertical, Adjacent and Corresponding Angles</a:t>
            </a:r>
            <a:r>
              <a:rPr b="0" lang="en-US" sz="3800" spc="-1" strike="noStrike">
                <a:solidFill>
                  <a:srgbClr val="cc0000"/>
                </a:solidFill>
                <a:latin typeface="Ravie"/>
              </a:rPr>
              <a:t> </a:t>
            </a:r>
            <a:br>
              <a:rPr sz="3800"/>
            </a:b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Finding Angle Measur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d each angle using the given 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85800" y="2209680"/>
            <a:ext cx="4143240" cy="3676680"/>
            <a:chOff x="685800" y="2209680"/>
            <a:chExt cx="4143240" cy="367668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685800" y="2209680"/>
              <a:ext cx="4143240" cy="36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676520" y="3124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38280" y="31240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3504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35049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66880" y="44193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00400" y="4419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19520" y="4800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352680" y="48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72200" y="2133720"/>
          <a:ext cx="250200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2133720"/>
                    <a:ext cx="2502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857680" y="2813040"/>
            <a:ext cx="517320" cy="446040"/>
          </a:xfrm>
          <a:custGeom>
            <a:avLst/>
            <a:gdLst/>
            <a:ahLst/>
            <a:rect l="l" t="t" r="r" b="b"/>
            <a:pathLst>
              <a:path w="1439" h="1242">
                <a:moveTo>
                  <a:pt x="7938" y="8409"/>
                </a:moveTo>
                <a:cubicBezTo>
                  <a:pt x="8041" y="8445"/>
                  <a:pt x="7996" y="8598"/>
                  <a:pt x="8012" y="8706"/>
                </a:cubicBezTo>
                <a:cubicBezTo>
                  <a:pt x="8031" y="8832"/>
                  <a:pt x="7981" y="9144"/>
                  <a:pt x="8086" y="8954"/>
                </a:cubicBezTo>
              </a:path>
              <a:path w="1439" h="1242">
                <a:moveTo>
                  <a:pt x="8359" y="8409"/>
                </a:moveTo>
                <a:cubicBezTo>
                  <a:pt x="8359" y="8516"/>
                  <a:pt x="8371" y="8333"/>
                  <a:pt x="8409" y="8285"/>
                </a:cubicBezTo>
                <a:cubicBezTo>
                  <a:pt x="8434" y="8268"/>
                  <a:pt x="8458" y="8252"/>
                  <a:pt x="8483" y="8235"/>
                </a:cubicBezTo>
                <a:cubicBezTo>
                  <a:pt x="8596" y="8375"/>
                  <a:pt x="8511" y="8612"/>
                  <a:pt x="8458" y="8781"/>
                </a:cubicBezTo>
                <a:cubicBezTo>
                  <a:pt x="8403" y="8929"/>
                  <a:pt x="8378" y="8941"/>
                  <a:pt x="8384" y="9029"/>
                </a:cubicBezTo>
                <a:cubicBezTo>
                  <a:pt x="8410" y="8959"/>
                  <a:pt x="8460" y="8798"/>
                  <a:pt x="8558" y="8806"/>
                </a:cubicBezTo>
                <a:cubicBezTo>
                  <a:pt x="8751" y="8822"/>
                  <a:pt x="8721" y="8889"/>
                  <a:pt x="8830" y="8682"/>
                </a:cubicBezTo>
              </a:path>
              <a:path w="1439" h="1242">
                <a:moveTo>
                  <a:pt x="8781" y="8310"/>
                </a:moveTo>
                <a:cubicBezTo>
                  <a:pt x="8794" y="8245"/>
                  <a:pt x="8827" y="8082"/>
                  <a:pt x="8930" y="8136"/>
                </a:cubicBezTo>
                <a:cubicBezTo>
                  <a:pt x="9102" y="8226"/>
                  <a:pt x="9001" y="8511"/>
                  <a:pt x="8954" y="8632"/>
                </a:cubicBezTo>
                <a:cubicBezTo>
                  <a:pt x="8938" y="8665"/>
                  <a:pt x="8921" y="8698"/>
                  <a:pt x="8905" y="8731"/>
                </a:cubicBezTo>
                <a:cubicBezTo>
                  <a:pt x="9014" y="8745"/>
                  <a:pt x="9000" y="8771"/>
                  <a:pt x="9103" y="8706"/>
                </a:cubicBezTo>
                <a:cubicBezTo>
                  <a:pt x="9167" y="8665"/>
                  <a:pt x="9203" y="8644"/>
                  <a:pt x="9277" y="8632"/>
                </a:cubicBezTo>
              </a:path>
              <a:path w="1439" h="1242">
                <a:moveTo>
                  <a:pt x="9327" y="7813"/>
                </a:moveTo>
                <a:cubicBezTo>
                  <a:pt x="9264" y="7912"/>
                  <a:pt x="9260" y="7945"/>
                  <a:pt x="9277" y="8062"/>
                </a:cubicBezTo>
                <a:cubicBezTo>
                  <a:pt x="9297" y="8052"/>
                  <a:pt x="9484" y="7874"/>
                  <a:pt x="9351" y="7863"/>
                </a:cubicBezTo>
                <a:cubicBezTo>
                  <a:pt x="9318" y="7871"/>
                  <a:pt x="9285" y="7880"/>
                  <a:pt x="9252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24080" y="3321000"/>
            <a:ext cx="365040" cy="331920"/>
          </a:xfrm>
          <a:custGeom>
            <a:avLst/>
            <a:gdLst/>
            <a:ahLst/>
            <a:rect l="l" t="t" r="r" b="b"/>
            <a:pathLst>
              <a:path w="1018" h="919">
                <a:moveTo>
                  <a:pt x="6226" y="9302"/>
                </a:moveTo>
                <a:cubicBezTo>
                  <a:pt x="6226" y="9294"/>
                  <a:pt x="6226" y="9285"/>
                  <a:pt x="6226" y="9277"/>
                </a:cubicBezTo>
                <a:cubicBezTo>
                  <a:pt x="6207" y="9200"/>
                  <a:pt x="6220" y="9322"/>
                  <a:pt x="6226" y="9401"/>
                </a:cubicBezTo>
                <a:cubicBezTo>
                  <a:pt x="6232" y="9480"/>
                  <a:pt x="6242" y="9547"/>
                  <a:pt x="6251" y="9624"/>
                </a:cubicBezTo>
                <a:cubicBezTo>
                  <a:pt x="6251" y="9545"/>
                  <a:pt x="6225" y="9475"/>
                  <a:pt x="6201" y="9401"/>
                </a:cubicBezTo>
                <a:cubicBezTo>
                  <a:pt x="6181" y="9340"/>
                  <a:pt x="6176" y="9312"/>
                  <a:pt x="6176" y="9252"/>
                </a:cubicBezTo>
                <a:cubicBezTo>
                  <a:pt x="6189" y="9368"/>
                  <a:pt x="6208" y="9468"/>
                  <a:pt x="6251" y="9575"/>
                </a:cubicBezTo>
              </a:path>
              <a:path w="1018" h="919">
                <a:moveTo>
                  <a:pt x="6896" y="9599"/>
                </a:moveTo>
                <a:cubicBezTo>
                  <a:pt x="6896" y="9563"/>
                  <a:pt x="6916" y="9477"/>
                  <a:pt x="6846" y="9550"/>
                </a:cubicBezTo>
                <a:cubicBezTo>
                  <a:pt x="6777" y="9622"/>
                  <a:pt x="6718" y="9702"/>
                  <a:pt x="6648" y="9773"/>
                </a:cubicBezTo>
                <a:cubicBezTo>
                  <a:pt x="6686" y="9696"/>
                  <a:pt x="6811" y="9632"/>
                  <a:pt x="6871" y="9550"/>
                </a:cubicBezTo>
                <a:cubicBezTo>
                  <a:pt x="6922" y="9480"/>
                  <a:pt x="6783" y="9637"/>
                  <a:pt x="6722" y="9699"/>
                </a:cubicBezTo>
                <a:cubicBezTo>
                  <a:pt x="6552" y="9870"/>
                  <a:pt x="6613" y="9802"/>
                  <a:pt x="6772" y="9674"/>
                </a:cubicBezTo>
                <a:cubicBezTo>
                  <a:pt x="6999" y="9491"/>
                  <a:pt x="6930" y="9554"/>
                  <a:pt x="6772" y="9699"/>
                </a:cubicBezTo>
                <a:cubicBezTo>
                  <a:pt x="6739" y="9732"/>
                  <a:pt x="6705" y="9765"/>
                  <a:pt x="6672" y="9798"/>
                </a:cubicBezTo>
                <a:cubicBezTo>
                  <a:pt x="6656" y="9806"/>
                  <a:pt x="6639" y="9815"/>
                  <a:pt x="6623" y="9823"/>
                </a:cubicBezTo>
                <a:cubicBezTo>
                  <a:pt x="6729" y="9769"/>
                  <a:pt x="6814" y="9637"/>
                  <a:pt x="6921" y="9575"/>
                </a:cubicBezTo>
                <a:cubicBezTo>
                  <a:pt x="7055" y="9498"/>
                  <a:pt x="6681" y="9767"/>
                  <a:pt x="6598" y="9897"/>
                </a:cubicBezTo>
                <a:cubicBezTo>
                  <a:pt x="6543" y="9983"/>
                  <a:pt x="6893" y="9627"/>
                  <a:pt x="6821" y="9699"/>
                </a:cubicBezTo>
                <a:cubicBezTo>
                  <a:pt x="6764" y="9756"/>
                  <a:pt x="6667" y="9820"/>
                  <a:pt x="6648" y="9897"/>
                </a:cubicBezTo>
              </a:path>
              <a:path w="1018" h="919">
                <a:moveTo>
                  <a:pt x="6474" y="9550"/>
                </a:moveTo>
                <a:cubicBezTo>
                  <a:pt x="6466" y="9550"/>
                  <a:pt x="6457" y="9550"/>
                  <a:pt x="6449" y="9550"/>
                </a:cubicBezTo>
                <a:cubicBezTo>
                  <a:pt x="6491" y="9564"/>
                  <a:pt x="6513" y="9628"/>
                  <a:pt x="6548" y="9674"/>
                </a:cubicBezTo>
                <a:cubicBezTo>
                  <a:pt x="6591" y="9731"/>
                  <a:pt x="6664" y="9806"/>
                  <a:pt x="6722" y="9847"/>
                </a:cubicBezTo>
                <a:cubicBezTo>
                  <a:pt x="6779" y="9887"/>
                  <a:pt x="6821" y="9933"/>
                  <a:pt x="6846" y="9996"/>
                </a:cubicBezTo>
                <a:cubicBezTo>
                  <a:pt x="6876" y="10006"/>
                  <a:pt x="6889" y="10038"/>
                  <a:pt x="6921" y="10071"/>
                </a:cubicBezTo>
                <a:cubicBezTo>
                  <a:pt x="6956" y="10107"/>
                  <a:pt x="7045" y="10095"/>
                  <a:pt x="7045" y="10145"/>
                </a:cubicBezTo>
                <a:cubicBezTo>
                  <a:pt x="7037" y="10145"/>
                  <a:pt x="7028" y="10145"/>
                  <a:pt x="7020" y="10145"/>
                </a:cubicBezTo>
              </a:path>
              <a:path w="1018" h="919">
                <a:moveTo>
                  <a:pt x="6747" y="9847"/>
                </a:moveTo>
                <a:cubicBezTo>
                  <a:pt x="6677" y="9804"/>
                  <a:pt x="6640" y="9759"/>
                  <a:pt x="6598" y="9699"/>
                </a:cubicBezTo>
                <a:cubicBezTo>
                  <a:pt x="6590" y="9691"/>
                  <a:pt x="6581" y="9682"/>
                  <a:pt x="6573" y="9674"/>
                </a:cubicBezTo>
                <a:cubicBezTo>
                  <a:pt x="6686" y="9690"/>
                  <a:pt x="6768" y="9772"/>
                  <a:pt x="6871" y="9823"/>
                </a:cubicBezTo>
                <a:cubicBezTo>
                  <a:pt x="6962" y="9869"/>
                  <a:pt x="7097" y="9931"/>
                  <a:pt x="7169" y="9971"/>
                </a:cubicBezTo>
                <a:cubicBezTo>
                  <a:pt x="7177" y="9971"/>
                  <a:pt x="7185" y="9971"/>
                  <a:pt x="7193" y="9971"/>
                </a:cubicBezTo>
                <a:cubicBezTo>
                  <a:pt x="7150" y="9887"/>
                  <a:pt x="7012" y="9837"/>
                  <a:pt x="6921" y="9798"/>
                </a:cubicBezTo>
                <a:cubicBezTo>
                  <a:pt x="6796" y="9744"/>
                  <a:pt x="6652" y="9683"/>
                  <a:pt x="6573" y="9575"/>
                </a:cubicBezTo>
                <a:cubicBezTo>
                  <a:pt x="6573" y="9547"/>
                  <a:pt x="6571" y="9536"/>
                  <a:pt x="6548" y="9525"/>
                </a:cubicBezTo>
                <a:cubicBezTo>
                  <a:pt x="6654" y="9577"/>
                  <a:pt x="6768" y="9699"/>
                  <a:pt x="6871" y="9773"/>
                </a:cubicBezTo>
                <a:cubicBezTo>
                  <a:pt x="6952" y="9833"/>
                  <a:pt x="6965" y="9848"/>
                  <a:pt x="7020" y="9872"/>
                </a:cubicBezTo>
                <a:cubicBezTo>
                  <a:pt x="7086" y="9971"/>
                  <a:pt x="6804" y="9754"/>
                  <a:pt x="6796" y="9748"/>
                </a:cubicBezTo>
                <a:cubicBezTo>
                  <a:pt x="6688" y="9667"/>
                  <a:pt x="6647" y="9633"/>
                  <a:pt x="6598" y="9550"/>
                </a:cubicBezTo>
                <a:cubicBezTo>
                  <a:pt x="6516" y="9433"/>
                  <a:pt x="6481" y="9428"/>
                  <a:pt x="6623" y="9575"/>
                </a:cubicBezTo>
                <a:cubicBezTo>
                  <a:pt x="6756" y="9713"/>
                  <a:pt x="6920" y="9811"/>
                  <a:pt x="7045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3240" y="3660840"/>
            <a:ext cx="357480" cy="223920"/>
          </a:xfrm>
          <a:custGeom>
            <a:avLst/>
            <a:gdLst/>
            <a:ahLst/>
            <a:rect l="l" t="t" r="r" b="b"/>
            <a:pathLst>
              <a:path w="993" h="621">
                <a:moveTo>
                  <a:pt x="8607" y="10294"/>
                </a:moveTo>
                <a:cubicBezTo>
                  <a:pt x="8554" y="10258"/>
                  <a:pt x="8468" y="10341"/>
                  <a:pt x="8384" y="10368"/>
                </a:cubicBezTo>
                <a:cubicBezTo>
                  <a:pt x="8330" y="10386"/>
                  <a:pt x="8359" y="10479"/>
                  <a:pt x="8359" y="10542"/>
                </a:cubicBezTo>
                <a:cubicBezTo>
                  <a:pt x="8461" y="10501"/>
                  <a:pt x="8462" y="10458"/>
                  <a:pt x="8582" y="10468"/>
                </a:cubicBezTo>
                <a:cubicBezTo>
                  <a:pt x="8654" y="10609"/>
                  <a:pt x="8583" y="10739"/>
                  <a:pt x="8409" y="10790"/>
                </a:cubicBezTo>
                <a:cubicBezTo>
                  <a:pt x="8294" y="10823"/>
                  <a:pt x="8263" y="10767"/>
                  <a:pt x="8285" y="10691"/>
                </a:cubicBezTo>
              </a:path>
              <a:path w="993" h="621">
                <a:moveTo>
                  <a:pt x="8930" y="10269"/>
                </a:moveTo>
                <a:cubicBezTo>
                  <a:pt x="8833" y="10298"/>
                  <a:pt x="8784" y="10346"/>
                  <a:pt x="8706" y="10418"/>
                </a:cubicBezTo>
                <a:cubicBezTo>
                  <a:pt x="8776" y="10499"/>
                  <a:pt x="8975" y="10525"/>
                  <a:pt x="8979" y="10666"/>
                </a:cubicBezTo>
                <a:cubicBezTo>
                  <a:pt x="8931" y="10763"/>
                  <a:pt x="8917" y="10795"/>
                  <a:pt x="8830" y="10790"/>
                </a:cubicBezTo>
                <a:cubicBezTo>
                  <a:pt x="8756" y="10616"/>
                  <a:pt x="8788" y="10546"/>
                  <a:pt x="8905" y="10393"/>
                </a:cubicBezTo>
                <a:cubicBezTo>
                  <a:pt x="8973" y="10304"/>
                  <a:pt x="8856" y="10359"/>
                  <a:pt x="8806" y="10368"/>
                </a:cubicBezTo>
                <a:cubicBezTo>
                  <a:pt x="8798" y="10368"/>
                  <a:pt x="8789" y="10368"/>
                  <a:pt x="8781" y="10368"/>
                </a:cubicBezTo>
              </a:path>
              <a:path w="993" h="621">
                <a:moveTo>
                  <a:pt x="9203" y="10170"/>
                </a:moveTo>
                <a:cubicBezTo>
                  <a:pt x="9136" y="10220"/>
                  <a:pt x="9121" y="10238"/>
                  <a:pt x="9103" y="10319"/>
                </a:cubicBezTo>
                <a:cubicBezTo>
                  <a:pt x="9161" y="10332"/>
                  <a:pt x="9340" y="10260"/>
                  <a:pt x="9227" y="10220"/>
                </a:cubicBezTo>
                <a:cubicBezTo>
                  <a:pt x="9202" y="10220"/>
                  <a:pt x="9178" y="10220"/>
                  <a:pt x="9153" y="102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3000" y="2357280"/>
            <a:ext cx="241200" cy="27000"/>
          </a:xfrm>
          <a:custGeom>
            <a:avLst/>
            <a:gdLst/>
            <a:ahLst/>
            <a:rect l="l" t="t" r="r" b="b"/>
            <a:pathLst>
              <a:path w="670" h="76">
                <a:moveTo>
                  <a:pt x="16297" y="6598"/>
                </a:moveTo>
                <a:cubicBezTo>
                  <a:pt x="16440" y="6598"/>
                  <a:pt x="16576" y="6560"/>
                  <a:pt x="16718" y="6548"/>
                </a:cubicBezTo>
                <a:cubicBezTo>
                  <a:pt x="16793" y="6548"/>
                  <a:pt x="16801" y="6548"/>
                  <a:pt x="16842" y="6548"/>
                </a:cubicBezTo>
                <a:cubicBezTo>
                  <a:pt x="16721" y="6548"/>
                  <a:pt x="16139" y="6568"/>
                  <a:pt x="16222" y="6573"/>
                </a:cubicBezTo>
                <a:cubicBezTo>
                  <a:pt x="16292" y="6577"/>
                  <a:pt x="17023" y="6557"/>
                  <a:pt x="16743" y="6598"/>
                </a:cubicBezTo>
                <a:cubicBezTo>
                  <a:pt x="16676" y="6598"/>
                  <a:pt x="16677" y="6602"/>
                  <a:pt x="16793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05160" y="2009880"/>
            <a:ext cx="804960" cy="1035000"/>
          </a:xfrm>
          <a:custGeom>
            <a:avLst/>
            <a:gdLst/>
            <a:ahLst/>
            <a:rect l="l" t="t" r="r" b="b"/>
            <a:pathLst>
              <a:path w="2233" h="2878">
                <a:moveTo>
                  <a:pt x="12080" y="6077"/>
                </a:moveTo>
                <a:cubicBezTo>
                  <a:pt x="12105" y="6077"/>
                  <a:pt x="12113" y="6077"/>
                  <a:pt x="12105" y="6052"/>
                </a:cubicBezTo>
                <a:cubicBezTo>
                  <a:pt x="12105" y="6235"/>
                  <a:pt x="12126" y="6417"/>
                  <a:pt x="12154" y="6598"/>
                </a:cubicBezTo>
                <a:cubicBezTo>
                  <a:pt x="12174" y="6697"/>
                  <a:pt x="12182" y="6713"/>
                  <a:pt x="12179" y="6772"/>
                </a:cubicBezTo>
              </a:path>
              <a:path w="2233" h="2878">
                <a:moveTo>
                  <a:pt x="12898" y="6052"/>
                </a:moveTo>
                <a:cubicBezTo>
                  <a:pt x="12748" y="6023"/>
                  <a:pt x="12648" y="6106"/>
                  <a:pt x="12526" y="6201"/>
                </a:cubicBezTo>
                <a:cubicBezTo>
                  <a:pt x="12518" y="6209"/>
                  <a:pt x="12510" y="6218"/>
                  <a:pt x="12502" y="6226"/>
                </a:cubicBezTo>
                <a:cubicBezTo>
                  <a:pt x="12612" y="6359"/>
                  <a:pt x="12842" y="6505"/>
                  <a:pt x="12824" y="6697"/>
                </a:cubicBezTo>
                <a:cubicBezTo>
                  <a:pt x="12807" y="6714"/>
                  <a:pt x="12791" y="6730"/>
                  <a:pt x="12774" y="6747"/>
                </a:cubicBezTo>
                <a:cubicBezTo>
                  <a:pt x="12562" y="6686"/>
                  <a:pt x="12612" y="6565"/>
                  <a:pt x="12700" y="6375"/>
                </a:cubicBezTo>
                <a:cubicBezTo>
                  <a:pt x="12718" y="6337"/>
                  <a:pt x="12745" y="6236"/>
                  <a:pt x="12774" y="6226"/>
                </a:cubicBezTo>
              </a:path>
              <a:path w="2233" h="2878">
                <a:moveTo>
                  <a:pt x="13171" y="6176"/>
                </a:moveTo>
                <a:cubicBezTo>
                  <a:pt x="13148" y="6154"/>
                  <a:pt x="13140" y="6149"/>
                  <a:pt x="13146" y="6127"/>
                </a:cubicBezTo>
              </a:path>
              <a:path w="2233" h="2878">
                <a:moveTo>
                  <a:pt x="13146" y="6176"/>
                </a:moveTo>
                <a:lnTo>
                  <a:pt x="13146" y="6176"/>
                </a:lnTo>
              </a:path>
              <a:path w="2233" h="2878">
                <a:moveTo>
                  <a:pt x="13122" y="6251"/>
                </a:moveTo>
                <a:cubicBezTo>
                  <a:pt x="13097" y="6397"/>
                  <a:pt x="13081" y="6505"/>
                  <a:pt x="13097" y="6648"/>
                </a:cubicBezTo>
                <a:cubicBezTo>
                  <a:pt x="13260" y="6677"/>
                  <a:pt x="13412" y="6603"/>
                  <a:pt x="13469" y="6424"/>
                </a:cubicBezTo>
                <a:cubicBezTo>
                  <a:pt x="13534" y="6219"/>
                  <a:pt x="13349" y="6102"/>
                  <a:pt x="13171" y="6102"/>
                </a:cubicBezTo>
                <a:cubicBezTo>
                  <a:pt x="13105" y="6135"/>
                  <a:pt x="13081" y="6160"/>
                  <a:pt x="13072" y="6226"/>
                </a:cubicBezTo>
              </a:path>
              <a:path w="2233" h="2878">
                <a:moveTo>
                  <a:pt x="11757" y="7144"/>
                </a:moveTo>
                <a:cubicBezTo>
                  <a:pt x="11908" y="7122"/>
                  <a:pt x="12051" y="7119"/>
                  <a:pt x="12204" y="7119"/>
                </a:cubicBezTo>
              </a:path>
              <a:path w="2233" h="2878">
                <a:moveTo>
                  <a:pt x="12849" y="7045"/>
                </a:moveTo>
                <a:cubicBezTo>
                  <a:pt x="12788" y="7045"/>
                  <a:pt x="12668" y="7021"/>
                  <a:pt x="12650" y="7069"/>
                </a:cubicBezTo>
                <a:cubicBezTo>
                  <a:pt x="12626" y="7133"/>
                  <a:pt x="12626" y="7176"/>
                  <a:pt x="12626" y="7243"/>
                </a:cubicBezTo>
                <a:cubicBezTo>
                  <a:pt x="12731" y="7225"/>
                  <a:pt x="12840" y="7154"/>
                  <a:pt x="12948" y="7218"/>
                </a:cubicBezTo>
                <a:cubicBezTo>
                  <a:pt x="12965" y="7243"/>
                  <a:pt x="12981" y="7268"/>
                  <a:pt x="12998" y="7293"/>
                </a:cubicBezTo>
                <a:cubicBezTo>
                  <a:pt x="12943" y="7374"/>
                  <a:pt x="12724" y="7645"/>
                  <a:pt x="12626" y="7417"/>
                </a:cubicBezTo>
                <a:cubicBezTo>
                  <a:pt x="12634" y="7384"/>
                  <a:pt x="12642" y="7350"/>
                  <a:pt x="12650" y="7317"/>
                </a:cubicBezTo>
              </a:path>
              <a:path w="2233" h="2878">
                <a:moveTo>
                  <a:pt x="13246" y="6945"/>
                </a:moveTo>
                <a:cubicBezTo>
                  <a:pt x="13080" y="7152"/>
                  <a:pt x="13160" y="7089"/>
                  <a:pt x="13320" y="7243"/>
                </a:cubicBezTo>
                <a:cubicBezTo>
                  <a:pt x="13391" y="7336"/>
                  <a:pt x="13417" y="7362"/>
                  <a:pt x="13370" y="7441"/>
                </a:cubicBezTo>
                <a:cubicBezTo>
                  <a:pt x="13345" y="7458"/>
                  <a:pt x="13320" y="7474"/>
                  <a:pt x="13295" y="7491"/>
                </a:cubicBezTo>
                <a:cubicBezTo>
                  <a:pt x="13201" y="7315"/>
                  <a:pt x="13394" y="7199"/>
                  <a:pt x="13370" y="7045"/>
                </a:cubicBezTo>
                <a:cubicBezTo>
                  <a:pt x="13353" y="7045"/>
                  <a:pt x="13337" y="7045"/>
                  <a:pt x="13320" y="7045"/>
                </a:cubicBezTo>
              </a:path>
              <a:path w="2233" h="2878">
                <a:moveTo>
                  <a:pt x="11683" y="7789"/>
                </a:moveTo>
                <a:cubicBezTo>
                  <a:pt x="12245" y="7658"/>
                  <a:pt x="12799" y="7589"/>
                  <a:pt x="13370" y="7516"/>
                </a:cubicBezTo>
                <a:cubicBezTo>
                  <a:pt x="13573" y="7490"/>
                  <a:pt x="13721" y="7466"/>
                  <a:pt x="13915" y="7466"/>
                </a:cubicBezTo>
              </a:path>
              <a:path w="2233" h="2878">
                <a:moveTo>
                  <a:pt x="12502" y="6077"/>
                </a:moveTo>
                <a:cubicBezTo>
                  <a:pt x="12609" y="6228"/>
                  <a:pt x="12750" y="6382"/>
                  <a:pt x="12849" y="6524"/>
                </a:cubicBezTo>
                <a:cubicBezTo>
                  <a:pt x="12849" y="6532"/>
                  <a:pt x="12849" y="6540"/>
                  <a:pt x="12849" y="6548"/>
                </a:cubicBezTo>
              </a:path>
              <a:path w="2233" h="2878">
                <a:moveTo>
                  <a:pt x="12328" y="5655"/>
                </a:moveTo>
                <a:cubicBezTo>
                  <a:pt x="12435" y="5680"/>
                  <a:pt x="12541" y="5700"/>
                  <a:pt x="12626" y="5606"/>
                </a:cubicBezTo>
                <a:cubicBezTo>
                  <a:pt x="12626" y="5598"/>
                  <a:pt x="12626" y="5589"/>
                  <a:pt x="12626" y="5581"/>
                </a:cubicBezTo>
                <a:cubicBezTo>
                  <a:pt x="12669" y="5730"/>
                  <a:pt x="12650" y="5895"/>
                  <a:pt x="12650" y="6052"/>
                </a:cubicBezTo>
                <a:cubicBezTo>
                  <a:pt x="12650" y="6069"/>
                  <a:pt x="12650" y="6085"/>
                  <a:pt x="12650" y="6102"/>
                </a:cubicBezTo>
              </a:path>
              <a:path w="2233" h="2878">
                <a:moveTo>
                  <a:pt x="13097" y="5904"/>
                </a:moveTo>
                <a:cubicBezTo>
                  <a:pt x="13097" y="5987"/>
                  <a:pt x="13097" y="6069"/>
                  <a:pt x="13097" y="6152"/>
                </a:cubicBezTo>
              </a:path>
              <a:path w="2233" h="2878">
                <a:moveTo>
                  <a:pt x="13419" y="7764"/>
                </a:moveTo>
                <a:cubicBezTo>
                  <a:pt x="13419" y="7789"/>
                  <a:pt x="13419" y="7797"/>
                  <a:pt x="13395" y="7789"/>
                </a:cubicBezTo>
                <a:cubicBezTo>
                  <a:pt x="13395" y="7774"/>
                  <a:pt x="13373" y="7774"/>
                  <a:pt x="13419" y="7714"/>
                </a:cubicBezTo>
                <a:cubicBezTo>
                  <a:pt x="13464" y="7670"/>
                  <a:pt x="13474" y="7653"/>
                  <a:pt x="13519" y="7665"/>
                </a:cubicBezTo>
                <a:cubicBezTo>
                  <a:pt x="13606" y="7819"/>
                  <a:pt x="13543" y="7957"/>
                  <a:pt x="13469" y="8111"/>
                </a:cubicBezTo>
                <a:cubicBezTo>
                  <a:pt x="13430" y="8192"/>
                  <a:pt x="13386" y="8230"/>
                  <a:pt x="13370" y="8310"/>
                </a:cubicBezTo>
                <a:cubicBezTo>
                  <a:pt x="13376" y="8279"/>
                  <a:pt x="13439" y="8164"/>
                  <a:pt x="13469" y="8161"/>
                </a:cubicBezTo>
                <a:cubicBezTo>
                  <a:pt x="13610" y="8148"/>
                  <a:pt x="13592" y="8191"/>
                  <a:pt x="13742" y="8111"/>
                </a:cubicBezTo>
                <a:cubicBezTo>
                  <a:pt x="13775" y="8111"/>
                  <a:pt x="13775" y="8111"/>
                  <a:pt x="13717" y="8111"/>
                </a:cubicBezTo>
              </a:path>
              <a:path w="2233" h="2878">
                <a:moveTo>
                  <a:pt x="12874" y="7888"/>
                </a:moveTo>
                <a:cubicBezTo>
                  <a:pt x="12889" y="7873"/>
                  <a:pt x="12953" y="7809"/>
                  <a:pt x="12973" y="7813"/>
                </a:cubicBezTo>
                <a:cubicBezTo>
                  <a:pt x="12997" y="7818"/>
                  <a:pt x="13043" y="7863"/>
                  <a:pt x="13047" y="7888"/>
                </a:cubicBezTo>
                <a:cubicBezTo>
                  <a:pt x="13066" y="8009"/>
                  <a:pt x="12941" y="8147"/>
                  <a:pt x="12874" y="8235"/>
                </a:cubicBezTo>
                <a:cubicBezTo>
                  <a:pt x="12816" y="8312"/>
                  <a:pt x="12822" y="8363"/>
                  <a:pt x="12799" y="8458"/>
                </a:cubicBezTo>
                <a:cubicBezTo>
                  <a:pt x="12799" y="8450"/>
                  <a:pt x="12799" y="8442"/>
                  <a:pt x="12799" y="8434"/>
                </a:cubicBezTo>
                <a:cubicBezTo>
                  <a:pt x="12818" y="8321"/>
                  <a:pt x="12823" y="8256"/>
                  <a:pt x="12948" y="8310"/>
                </a:cubicBezTo>
                <a:cubicBezTo>
                  <a:pt x="13030" y="8346"/>
                  <a:pt x="13028" y="8336"/>
                  <a:pt x="13072" y="8260"/>
                </a:cubicBezTo>
              </a:path>
              <a:path w="2233" h="2878">
                <a:moveTo>
                  <a:pt x="12576" y="7888"/>
                </a:moveTo>
                <a:cubicBezTo>
                  <a:pt x="12576" y="7796"/>
                  <a:pt x="12588" y="8020"/>
                  <a:pt x="12601" y="8111"/>
                </a:cubicBezTo>
                <a:cubicBezTo>
                  <a:pt x="12615" y="8209"/>
                  <a:pt x="12626" y="8270"/>
                  <a:pt x="12626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16880" y="2035080"/>
            <a:ext cx="741240" cy="385920"/>
          </a:xfrm>
          <a:custGeom>
            <a:avLst/>
            <a:gdLst/>
            <a:ahLst/>
            <a:rect l="l" t="t" r="r" b="b"/>
            <a:pathLst>
              <a:path w="2060" h="1068">
                <a:moveTo>
                  <a:pt x="21158" y="5953"/>
                </a:moveTo>
                <a:cubicBezTo>
                  <a:pt x="21208" y="6210"/>
                  <a:pt x="21232" y="6462"/>
                  <a:pt x="21258" y="6722"/>
                </a:cubicBezTo>
                <a:cubicBezTo>
                  <a:pt x="21258" y="6714"/>
                  <a:pt x="21258" y="6705"/>
                  <a:pt x="21258" y="6697"/>
                </a:cubicBezTo>
              </a:path>
              <a:path w="2060" h="1068">
                <a:moveTo>
                  <a:pt x="21630" y="6028"/>
                </a:moveTo>
                <a:cubicBezTo>
                  <a:pt x="21671" y="5936"/>
                  <a:pt x="21751" y="5873"/>
                  <a:pt x="21853" y="5829"/>
                </a:cubicBezTo>
                <a:cubicBezTo>
                  <a:pt x="21901" y="6037"/>
                  <a:pt x="21857" y="6231"/>
                  <a:pt x="21754" y="6424"/>
                </a:cubicBezTo>
                <a:cubicBezTo>
                  <a:pt x="21709" y="6509"/>
                  <a:pt x="21658" y="6559"/>
                  <a:pt x="21605" y="6524"/>
                </a:cubicBezTo>
                <a:cubicBezTo>
                  <a:pt x="21745" y="6605"/>
                  <a:pt x="21806" y="6609"/>
                  <a:pt x="21952" y="6524"/>
                </a:cubicBezTo>
                <a:cubicBezTo>
                  <a:pt x="21977" y="6507"/>
                  <a:pt x="22002" y="6491"/>
                  <a:pt x="22027" y="6474"/>
                </a:cubicBezTo>
              </a:path>
              <a:path w="2060" h="1068">
                <a:moveTo>
                  <a:pt x="22225" y="6028"/>
                </a:moveTo>
                <a:cubicBezTo>
                  <a:pt x="22275" y="5943"/>
                  <a:pt x="22407" y="5854"/>
                  <a:pt x="22523" y="5879"/>
                </a:cubicBezTo>
                <a:cubicBezTo>
                  <a:pt x="22746" y="5927"/>
                  <a:pt x="22521" y="6274"/>
                  <a:pt x="22473" y="6350"/>
                </a:cubicBezTo>
                <a:cubicBezTo>
                  <a:pt x="22428" y="6422"/>
                  <a:pt x="22356" y="6506"/>
                  <a:pt x="22299" y="6573"/>
                </a:cubicBezTo>
                <a:cubicBezTo>
                  <a:pt x="22385" y="6552"/>
                  <a:pt x="22439" y="6475"/>
                  <a:pt x="22547" y="6499"/>
                </a:cubicBezTo>
                <a:cubicBezTo>
                  <a:pt x="22705" y="6534"/>
                  <a:pt x="22684" y="6559"/>
                  <a:pt x="22845" y="6499"/>
                </a:cubicBezTo>
              </a:path>
              <a:path w="2060" h="1068">
                <a:moveTo>
                  <a:pt x="23143" y="5655"/>
                </a:moveTo>
                <a:cubicBezTo>
                  <a:pt x="23098" y="5746"/>
                  <a:pt x="23069" y="5784"/>
                  <a:pt x="23093" y="5879"/>
                </a:cubicBezTo>
                <a:cubicBezTo>
                  <a:pt x="23174" y="5828"/>
                  <a:pt x="23314" y="5711"/>
                  <a:pt x="23143" y="57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52760" y="3776760"/>
            <a:ext cx="384120" cy="314280"/>
          </a:xfrm>
          <a:custGeom>
            <a:avLst/>
            <a:gdLst/>
            <a:ahLst/>
            <a:rect l="l" t="t" r="r" b="b"/>
            <a:pathLst>
              <a:path w="1067" h="870">
                <a:moveTo>
                  <a:pt x="4589" y="10840"/>
                </a:moveTo>
                <a:cubicBezTo>
                  <a:pt x="4589" y="11000"/>
                  <a:pt x="4621" y="11152"/>
                  <a:pt x="4638" y="11311"/>
                </a:cubicBezTo>
                <a:cubicBezTo>
                  <a:pt x="4638" y="11353"/>
                  <a:pt x="4638" y="11378"/>
                  <a:pt x="4638" y="11336"/>
                </a:cubicBezTo>
              </a:path>
              <a:path w="1067" h="870">
                <a:moveTo>
                  <a:pt x="4887" y="10790"/>
                </a:moveTo>
                <a:cubicBezTo>
                  <a:pt x="5022" y="10744"/>
                  <a:pt x="5104" y="10826"/>
                  <a:pt x="5085" y="10988"/>
                </a:cubicBezTo>
                <a:cubicBezTo>
                  <a:pt x="5066" y="11148"/>
                  <a:pt x="4947" y="11252"/>
                  <a:pt x="4862" y="11137"/>
                </a:cubicBezTo>
                <a:cubicBezTo>
                  <a:pt x="4878" y="11027"/>
                  <a:pt x="4983" y="11016"/>
                  <a:pt x="5085" y="11063"/>
                </a:cubicBezTo>
                <a:cubicBezTo>
                  <a:pt x="5124" y="11101"/>
                  <a:pt x="5125" y="11118"/>
                  <a:pt x="5159" y="11112"/>
                </a:cubicBezTo>
              </a:path>
              <a:path w="1067" h="870">
                <a:moveTo>
                  <a:pt x="5283" y="10740"/>
                </a:moveTo>
                <a:cubicBezTo>
                  <a:pt x="5342" y="10625"/>
                  <a:pt x="5438" y="10734"/>
                  <a:pt x="5482" y="10840"/>
                </a:cubicBezTo>
                <a:cubicBezTo>
                  <a:pt x="5533" y="10964"/>
                  <a:pt x="5497" y="11137"/>
                  <a:pt x="5333" y="11137"/>
                </a:cubicBezTo>
                <a:cubicBezTo>
                  <a:pt x="5308" y="11112"/>
                  <a:pt x="5300" y="11104"/>
                  <a:pt x="5283" y="11088"/>
                </a:cubicBezTo>
                <a:cubicBezTo>
                  <a:pt x="5347" y="11014"/>
                  <a:pt x="5451" y="10928"/>
                  <a:pt x="5556" y="11013"/>
                </a:cubicBezTo>
                <a:cubicBezTo>
                  <a:pt x="5584" y="11036"/>
                  <a:pt x="5571" y="11073"/>
                  <a:pt x="5606" y="11038"/>
                </a:cubicBezTo>
              </a:path>
              <a:path w="1067" h="870">
                <a:moveTo>
                  <a:pt x="5631" y="10492"/>
                </a:moveTo>
                <a:cubicBezTo>
                  <a:pt x="5574" y="10587"/>
                  <a:pt x="5568" y="10554"/>
                  <a:pt x="5606" y="10641"/>
                </a:cubicBezTo>
                <a:cubicBezTo>
                  <a:pt x="5650" y="10597"/>
                  <a:pt x="5667" y="10587"/>
                  <a:pt x="5655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4960" y="2820960"/>
            <a:ext cx="660240" cy="304920"/>
          </a:xfrm>
          <a:custGeom>
            <a:avLst/>
            <a:gdLst/>
            <a:ahLst/>
            <a:rect l="l" t="t" r="r" b="b"/>
            <a:pathLst>
              <a:path w="1836" h="845">
                <a:moveTo>
                  <a:pt x="21034" y="8012"/>
                </a:moveTo>
                <a:cubicBezTo>
                  <a:pt x="21034" y="8157"/>
                  <a:pt x="21027" y="8290"/>
                  <a:pt x="21010" y="8434"/>
                </a:cubicBezTo>
                <a:cubicBezTo>
                  <a:pt x="20998" y="8533"/>
                  <a:pt x="20954" y="8727"/>
                  <a:pt x="20985" y="8632"/>
                </a:cubicBezTo>
                <a:cubicBezTo>
                  <a:pt x="21001" y="8591"/>
                  <a:pt x="21018" y="8549"/>
                  <a:pt x="21034" y="8508"/>
                </a:cubicBezTo>
              </a:path>
              <a:path w="1836" h="845">
                <a:moveTo>
                  <a:pt x="21382" y="8037"/>
                </a:moveTo>
                <a:cubicBezTo>
                  <a:pt x="21554" y="7976"/>
                  <a:pt x="21711" y="7957"/>
                  <a:pt x="21729" y="8210"/>
                </a:cubicBezTo>
                <a:cubicBezTo>
                  <a:pt x="21751" y="8512"/>
                  <a:pt x="21543" y="8582"/>
                  <a:pt x="21307" y="8582"/>
                </a:cubicBezTo>
                <a:cubicBezTo>
                  <a:pt x="21307" y="8379"/>
                  <a:pt x="21408" y="8360"/>
                  <a:pt x="21605" y="8434"/>
                </a:cubicBezTo>
                <a:cubicBezTo>
                  <a:pt x="21690" y="8466"/>
                  <a:pt x="21722" y="8562"/>
                  <a:pt x="21779" y="8533"/>
                </a:cubicBezTo>
              </a:path>
              <a:path w="1836" h="845">
                <a:moveTo>
                  <a:pt x="22027" y="8086"/>
                </a:moveTo>
                <a:cubicBezTo>
                  <a:pt x="22182" y="7993"/>
                  <a:pt x="22289" y="8065"/>
                  <a:pt x="22324" y="8260"/>
                </a:cubicBezTo>
                <a:cubicBezTo>
                  <a:pt x="22357" y="8448"/>
                  <a:pt x="22223" y="8753"/>
                  <a:pt x="21977" y="8657"/>
                </a:cubicBezTo>
                <a:cubicBezTo>
                  <a:pt x="21960" y="8632"/>
                  <a:pt x="21944" y="8607"/>
                  <a:pt x="21927" y="8582"/>
                </a:cubicBezTo>
                <a:cubicBezTo>
                  <a:pt x="22036" y="8414"/>
                  <a:pt x="22103" y="8399"/>
                  <a:pt x="22275" y="8533"/>
                </a:cubicBezTo>
                <a:cubicBezTo>
                  <a:pt x="22338" y="8582"/>
                  <a:pt x="22337" y="8616"/>
                  <a:pt x="22399" y="8632"/>
                </a:cubicBezTo>
              </a:path>
              <a:path w="1836" h="845">
                <a:moveTo>
                  <a:pt x="22771" y="7838"/>
                </a:moveTo>
                <a:cubicBezTo>
                  <a:pt x="22627" y="7862"/>
                  <a:pt x="22612" y="7887"/>
                  <a:pt x="22597" y="8037"/>
                </a:cubicBezTo>
                <a:cubicBezTo>
                  <a:pt x="22622" y="8034"/>
                  <a:pt x="22972" y="7909"/>
                  <a:pt x="22796" y="7863"/>
                </a:cubicBezTo>
                <a:cubicBezTo>
                  <a:pt x="22754" y="7863"/>
                  <a:pt x="22713" y="7863"/>
                  <a:pt x="22671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05800" y="3402000"/>
            <a:ext cx="536400" cy="304920"/>
          </a:xfrm>
          <a:custGeom>
            <a:avLst/>
            <a:gdLst/>
            <a:ahLst/>
            <a:rect l="l" t="t" r="r" b="b"/>
            <a:pathLst>
              <a:path w="1490" h="844">
                <a:moveTo>
                  <a:pt x="21853" y="9649"/>
                </a:moveTo>
                <a:cubicBezTo>
                  <a:pt x="21891" y="9592"/>
                  <a:pt x="21712" y="9647"/>
                  <a:pt x="21654" y="9649"/>
                </a:cubicBezTo>
                <a:cubicBezTo>
                  <a:pt x="21520" y="9653"/>
                  <a:pt x="21572" y="9594"/>
                  <a:pt x="21530" y="9699"/>
                </a:cubicBezTo>
                <a:cubicBezTo>
                  <a:pt x="21491" y="9797"/>
                  <a:pt x="21475" y="9810"/>
                  <a:pt x="21481" y="9872"/>
                </a:cubicBezTo>
                <a:cubicBezTo>
                  <a:pt x="21585" y="9872"/>
                  <a:pt x="21705" y="9856"/>
                  <a:pt x="21803" y="9897"/>
                </a:cubicBezTo>
                <a:cubicBezTo>
                  <a:pt x="21836" y="9922"/>
                  <a:pt x="21870" y="9946"/>
                  <a:pt x="21903" y="9971"/>
                </a:cubicBezTo>
                <a:cubicBezTo>
                  <a:pt x="21830" y="10139"/>
                  <a:pt x="21651" y="10313"/>
                  <a:pt x="21431" y="10220"/>
                </a:cubicBezTo>
                <a:cubicBezTo>
                  <a:pt x="21400" y="10126"/>
                  <a:pt x="21406" y="10086"/>
                  <a:pt x="21506" y="10046"/>
                </a:cubicBezTo>
              </a:path>
              <a:path w="1490" h="844">
                <a:moveTo>
                  <a:pt x="22374" y="9599"/>
                </a:moveTo>
                <a:cubicBezTo>
                  <a:pt x="22238" y="9617"/>
                  <a:pt x="22230" y="9627"/>
                  <a:pt x="22126" y="9723"/>
                </a:cubicBezTo>
                <a:cubicBezTo>
                  <a:pt x="22203" y="9925"/>
                  <a:pt x="22352" y="10038"/>
                  <a:pt x="22448" y="10220"/>
                </a:cubicBezTo>
                <a:cubicBezTo>
                  <a:pt x="22261" y="10308"/>
                  <a:pt x="21982" y="10337"/>
                  <a:pt x="22200" y="10046"/>
                </a:cubicBezTo>
                <a:cubicBezTo>
                  <a:pt x="22303" y="9909"/>
                  <a:pt x="22546" y="9797"/>
                  <a:pt x="22324" y="9649"/>
                </a:cubicBezTo>
                <a:cubicBezTo>
                  <a:pt x="22316" y="9649"/>
                  <a:pt x="22307" y="9649"/>
                  <a:pt x="22299" y="9649"/>
                </a:cubicBezTo>
              </a:path>
              <a:path w="1490" h="844">
                <a:moveTo>
                  <a:pt x="22870" y="9451"/>
                </a:moveTo>
                <a:cubicBezTo>
                  <a:pt x="22721" y="9475"/>
                  <a:pt x="22731" y="9541"/>
                  <a:pt x="22771" y="9649"/>
                </a:cubicBezTo>
                <a:cubicBezTo>
                  <a:pt x="22798" y="9642"/>
                  <a:pt x="22996" y="9535"/>
                  <a:pt x="22870" y="9500"/>
                </a:cubicBezTo>
                <a:cubicBezTo>
                  <a:pt x="22845" y="9500"/>
                  <a:pt x="22821" y="9500"/>
                  <a:pt x="22796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19200" y="4303800"/>
            <a:ext cx="349560" cy="322200"/>
          </a:xfrm>
          <a:custGeom>
            <a:avLst/>
            <a:gdLst/>
            <a:ahLst/>
            <a:rect l="l" t="t" r="r" b="b"/>
            <a:pathLst>
              <a:path w="968" h="894">
                <a:moveTo>
                  <a:pt x="7020" y="12328"/>
                </a:moveTo>
                <a:cubicBezTo>
                  <a:pt x="7012" y="12353"/>
                  <a:pt x="6957" y="12374"/>
                  <a:pt x="6921" y="12402"/>
                </a:cubicBezTo>
                <a:cubicBezTo>
                  <a:pt x="6860" y="12449"/>
                  <a:pt x="6740" y="12487"/>
                  <a:pt x="6772" y="12551"/>
                </a:cubicBezTo>
                <a:cubicBezTo>
                  <a:pt x="6835" y="12679"/>
                  <a:pt x="6940" y="12493"/>
                  <a:pt x="7020" y="12576"/>
                </a:cubicBezTo>
                <a:cubicBezTo>
                  <a:pt x="7138" y="12700"/>
                  <a:pt x="6964" y="12849"/>
                  <a:pt x="6846" y="12849"/>
                </a:cubicBezTo>
                <a:cubicBezTo>
                  <a:pt x="6721" y="12849"/>
                  <a:pt x="6732" y="12835"/>
                  <a:pt x="6722" y="12750"/>
                </a:cubicBezTo>
              </a:path>
              <a:path w="968" h="894">
                <a:moveTo>
                  <a:pt x="7367" y="12179"/>
                </a:moveTo>
                <a:cubicBezTo>
                  <a:pt x="7290" y="12230"/>
                  <a:pt x="7249" y="12278"/>
                  <a:pt x="7193" y="12353"/>
                </a:cubicBezTo>
                <a:cubicBezTo>
                  <a:pt x="7289" y="12435"/>
                  <a:pt x="7418" y="12502"/>
                  <a:pt x="7342" y="12650"/>
                </a:cubicBezTo>
                <a:cubicBezTo>
                  <a:pt x="7317" y="12675"/>
                  <a:pt x="7293" y="12700"/>
                  <a:pt x="7268" y="12725"/>
                </a:cubicBezTo>
                <a:cubicBezTo>
                  <a:pt x="7221" y="12552"/>
                  <a:pt x="7295" y="12489"/>
                  <a:pt x="7342" y="12328"/>
                </a:cubicBezTo>
                <a:cubicBezTo>
                  <a:pt x="7359" y="12271"/>
                  <a:pt x="7340" y="12241"/>
                  <a:pt x="7293" y="12229"/>
                </a:cubicBezTo>
              </a:path>
              <a:path w="968" h="894">
                <a:moveTo>
                  <a:pt x="7615" y="11956"/>
                </a:moveTo>
                <a:cubicBezTo>
                  <a:pt x="7562" y="12001"/>
                  <a:pt x="7554" y="12002"/>
                  <a:pt x="7541" y="12080"/>
                </a:cubicBezTo>
                <a:cubicBezTo>
                  <a:pt x="7648" y="12092"/>
                  <a:pt x="7636" y="12079"/>
                  <a:pt x="7689" y="11981"/>
                </a:cubicBezTo>
                <a:cubicBezTo>
                  <a:pt x="7621" y="11981"/>
                  <a:pt x="7582" y="11989"/>
                  <a:pt x="7516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43880" y="4010040"/>
            <a:ext cx="554040" cy="276120"/>
          </a:xfrm>
          <a:custGeom>
            <a:avLst/>
            <a:gdLst/>
            <a:ahLst/>
            <a:rect l="l" t="t" r="r" b="b"/>
            <a:pathLst>
              <a:path w="1539" h="770">
                <a:moveTo>
                  <a:pt x="21754" y="11336"/>
                </a:moveTo>
                <a:cubicBezTo>
                  <a:pt x="21632" y="11316"/>
                  <a:pt x="21507" y="11301"/>
                  <a:pt x="21382" y="11286"/>
                </a:cubicBezTo>
                <a:cubicBezTo>
                  <a:pt x="21327" y="11280"/>
                  <a:pt x="21357" y="11486"/>
                  <a:pt x="21357" y="11509"/>
                </a:cubicBezTo>
                <a:cubicBezTo>
                  <a:pt x="21357" y="11526"/>
                  <a:pt x="21357" y="11542"/>
                  <a:pt x="21357" y="11559"/>
                </a:cubicBezTo>
                <a:cubicBezTo>
                  <a:pt x="21523" y="11538"/>
                  <a:pt x="21622" y="11534"/>
                  <a:pt x="21779" y="11584"/>
                </a:cubicBezTo>
                <a:cubicBezTo>
                  <a:pt x="21713" y="11844"/>
                  <a:pt x="21590" y="11920"/>
                  <a:pt x="21307" y="11832"/>
                </a:cubicBezTo>
                <a:cubicBezTo>
                  <a:pt x="21229" y="11779"/>
                  <a:pt x="21208" y="11759"/>
                  <a:pt x="21307" y="11708"/>
                </a:cubicBezTo>
              </a:path>
              <a:path w="1539" h="770">
                <a:moveTo>
                  <a:pt x="22250" y="11237"/>
                </a:moveTo>
                <a:cubicBezTo>
                  <a:pt x="22096" y="11306"/>
                  <a:pt x="22055" y="11326"/>
                  <a:pt x="21952" y="11460"/>
                </a:cubicBezTo>
                <a:cubicBezTo>
                  <a:pt x="22116" y="11593"/>
                  <a:pt x="22264" y="11641"/>
                  <a:pt x="22324" y="11832"/>
                </a:cubicBezTo>
                <a:cubicBezTo>
                  <a:pt x="22123" y="11914"/>
                  <a:pt x="22000" y="11847"/>
                  <a:pt x="22151" y="11609"/>
                </a:cubicBezTo>
                <a:cubicBezTo>
                  <a:pt x="22190" y="11548"/>
                  <a:pt x="22410" y="11366"/>
                  <a:pt x="22225" y="11311"/>
                </a:cubicBezTo>
                <a:cubicBezTo>
                  <a:pt x="22217" y="11311"/>
                  <a:pt x="22208" y="11311"/>
                  <a:pt x="22200" y="11311"/>
                </a:cubicBezTo>
              </a:path>
              <a:path w="1539" h="770">
                <a:moveTo>
                  <a:pt x="22721" y="11137"/>
                </a:moveTo>
                <a:cubicBezTo>
                  <a:pt x="22618" y="11172"/>
                  <a:pt x="22622" y="11184"/>
                  <a:pt x="22597" y="11286"/>
                </a:cubicBezTo>
                <a:cubicBezTo>
                  <a:pt x="22715" y="11333"/>
                  <a:pt x="22778" y="11305"/>
                  <a:pt x="22746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37000" y="4214880"/>
            <a:ext cx="480960" cy="339480"/>
          </a:xfrm>
          <a:custGeom>
            <a:avLst/>
            <a:gdLst/>
            <a:ahLst/>
            <a:rect l="l" t="t" r="r" b="b"/>
            <a:pathLst>
              <a:path w="1340" h="943">
                <a:moveTo>
                  <a:pt x="9823" y="12204"/>
                </a:moveTo>
                <a:cubicBezTo>
                  <a:pt x="9832" y="12231"/>
                  <a:pt x="9893" y="12515"/>
                  <a:pt x="9922" y="12626"/>
                </a:cubicBezTo>
                <a:cubicBezTo>
                  <a:pt x="9922" y="12650"/>
                  <a:pt x="9922" y="12658"/>
                  <a:pt x="9922" y="12626"/>
                </a:cubicBezTo>
              </a:path>
              <a:path w="1340" h="943">
                <a:moveTo>
                  <a:pt x="10046" y="12179"/>
                </a:moveTo>
                <a:cubicBezTo>
                  <a:pt x="10165" y="12108"/>
                  <a:pt x="10313" y="12045"/>
                  <a:pt x="10269" y="12278"/>
                </a:cubicBezTo>
                <a:cubicBezTo>
                  <a:pt x="10248" y="12391"/>
                  <a:pt x="10176" y="12503"/>
                  <a:pt x="10120" y="12601"/>
                </a:cubicBezTo>
                <a:cubicBezTo>
                  <a:pt x="10224" y="12601"/>
                  <a:pt x="10282" y="12559"/>
                  <a:pt x="10393" y="12551"/>
                </a:cubicBezTo>
                <a:cubicBezTo>
                  <a:pt x="10435" y="12551"/>
                  <a:pt x="10443" y="12551"/>
                  <a:pt x="10468" y="12551"/>
                </a:cubicBezTo>
              </a:path>
              <a:path w="1340" h="943">
                <a:moveTo>
                  <a:pt x="10567" y="12055"/>
                </a:moveTo>
                <a:cubicBezTo>
                  <a:pt x="10640" y="12003"/>
                  <a:pt x="10663" y="11998"/>
                  <a:pt x="10740" y="12005"/>
                </a:cubicBezTo>
                <a:cubicBezTo>
                  <a:pt x="10752" y="12217"/>
                  <a:pt x="10675" y="12332"/>
                  <a:pt x="10592" y="12526"/>
                </a:cubicBezTo>
                <a:cubicBezTo>
                  <a:pt x="10592" y="12534"/>
                  <a:pt x="10592" y="12543"/>
                  <a:pt x="10592" y="12551"/>
                </a:cubicBezTo>
                <a:cubicBezTo>
                  <a:pt x="10705" y="12516"/>
                  <a:pt x="10796" y="12502"/>
                  <a:pt x="10914" y="12502"/>
                </a:cubicBezTo>
                <a:cubicBezTo>
                  <a:pt x="10984" y="12502"/>
                  <a:pt x="11010" y="12484"/>
                  <a:pt x="11013" y="12402"/>
                </a:cubicBezTo>
              </a:path>
              <a:path w="1340" h="943">
                <a:moveTo>
                  <a:pt x="11063" y="11708"/>
                </a:moveTo>
                <a:cubicBezTo>
                  <a:pt x="11020" y="11804"/>
                  <a:pt x="11025" y="11858"/>
                  <a:pt x="11038" y="11956"/>
                </a:cubicBezTo>
                <a:cubicBezTo>
                  <a:pt x="11099" y="11936"/>
                  <a:pt x="11263" y="11825"/>
                  <a:pt x="11112" y="11782"/>
                </a:cubicBezTo>
                <a:cubicBezTo>
                  <a:pt x="11087" y="11782"/>
                  <a:pt x="11063" y="11782"/>
                  <a:pt x="11038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08960" y="4589640"/>
            <a:ext cx="785880" cy="366480"/>
          </a:xfrm>
          <a:custGeom>
            <a:avLst/>
            <a:gdLst/>
            <a:ahLst/>
            <a:rect l="l" t="t" r="r" b="b"/>
            <a:pathLst>
              <a:path w="2183" h="1018">
                <a:moveTo>
                  <a:pt x="21134" y="13047"/>
                </a:moveTo>
                <a:cubicBezTo>
                  <a:pt x="21134" y="13184"/>
                  <a:pt x="21105" y="13723"/>
                  <a:pt x="21158" y="13667"/>
                </a:cubicBezTo>
              </a:path>
              <a:path w="2183" h="1018">
                <a:moveTo>
                  <a:pt x="21555" y="13072"/>
                </a:moveTo>
                <a:cubicBezTo>
                  <a:pt x="21724" y="13021"/>
                  <a:pt x="21917" y="12969"/>
                  <a:pt x="21853" y="13246"/>
                </a:cubicBezTo>
                <a:cubicBezTo>
                  <a:pt x="21799" y="13480"/>
                  <a:pt x="21594" y="13614"/>
                  <a:pt x="21431" y="13767"/>
                </a:cubicBezTo>
                <a:cubicBezTo>
                  <a:pt x="21529" y="13708"/>
                  <a:pt x="21574" y="13567"/>
                  <a:pt x="21729" y="13593"/>
                </a:cubicBezTo>
                <a:cubicBezTo>
                  <a:pt x="21930" y="13626"/>
                  <a:pt x="21912" y="13711"/>
                  <a:pt x="22126" y="13618"/>
                </a:cubicBezTo>
              </a:path>
              <a:path w="2183" h="1018">
                <a:moveTo>
                  <a:pt x="22349" y="13097"/>
                </a:moveTo>
                <a:cubicBezTo>
                  <a:pt x="22290" y="13136"/>
                  <a:pt x="22278" y="13140"/>
                  <a:pt x="22250" y="13171"/>
                </a:cubicBezTo>
                <a:cubicBezTo>
                  <a:pt x="22299" y="13072"/>
                  <a:pt x="22423" y="12976"/>
                  <a:pt x="22547" y="12973"/>
                </a:cubicBezTo>
                <a:cubicBezTo>
                  <a:pt x="22859" y="12965"/>
                  <a:pt x="22432" y="13502"/>
                  <a:pt x="22399" y="13543"/>
                </a:cubicBezTo>
                <a:cubicBezTo>
                  <a:pt x="22286" y="13656"/>
                  <a:pt x="22260" y="13659"/>
                  <a:pt x="22225" y="13742"/>
                </a:cubicBezTo>
                <a:cubicBezTo>
                  <a:pt x="22301" y="13628"/>
                  <a:pt x="22376" y="13582"/>
                  <a:pt x="22498" y="13643"/>
                </a:cubicBezTo>
                <a:cubicBezTo>
                  <a:pt x="22690" y="13739"/>
                  <a:pt x="22771" y="13673"/>
                  <a:pt x="22895" y="13519"/>
                </a:cubicBezTo>
              </a:path>
              <a:path w="2183" h="1018">
                <a:moveTo>
                  <a:pt x="23242" y="12750"/>
                </a:moveTo>
                <a:cubicBezTo>
                  <a:pt x="23176" y="12796"/>
                  <a:pt x="22976" y="13059"/>
                  <a:pt x="23242" y="12948"/>
                </a:cubicBezTo>
                <a:cubicBezTo>
                  <a:pt x="23452" y="12860"/>
                  <a:pt x="23220" y="12794"/>
                  <a:pt x="23168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95360" y="4938840"/>
            <a:ext cx="446400" cy="384120"/>
          </a:xfrm>
          <a:custGeom>
            <a:avLst/>
            <a:gdLst/>
            <a:ahLst/>
            <a:rect l="l" t="t" r="r" b="b"/>
            <a:pathLst>
              <a:path w="1241" h="1068">
                <a:moveTo>
                  <a:pt x="6375" y="14139"/>
                </a:moveTo>
                <a:cubicBezTo>
                  <a:pt x="6375" y="13951"/>
                  <a:pt x="6443" y="14456"/>
                  <a:pt x="6499" y="14635"/>
                </a:cubicBezTo>
                <a:cubicBezTo>
                  <a:pt x="6535" y="14725"/>
                  <a:pt x="6551" y="14731"/>
                  <a:pt x="6548" y="14784"/>
                </a:cubicBezTo>
              </a:path>
              <a:path w="1241" h="1068">
                <a:moveTo>
                  <a:pt x="6697" y="14064"/>
                </a:moveTo>
                <a:cubicBezTo>
                  <a:pt x="6925" y="14075"/>
                  <a:pt x="7129" y="14196"/>
                  <a:pt x="7020" y="14486"/>
                </a:cubicBezTo>
                <a:cubicBezTo>
                  <a:pt x="6969" y="14622"/>
                  <a:pt x="6878" y="14646"/>
                  <a:pt x="6772" y="14635"/>
                </a:cubicBezTo>
                <a:cubicBezTo>
                  <a:pt x="6771" y="14492"/>
                  <a:pt x="6930" y="14438"/>
                  <a:pt x="7094" y="14486"/>
                </a:cubicBezTo>
                <a:cubicBezTo>
                  <a:pt x="7111" y="14503"/>
                  <a:pt x="7127" y="14519"/>
                  <a:pt x="7144" y="14536"/>
                </a:cubicBezTo>
              </a:path>
              <a:path w="1241" h="1068">
                <a:moveTo>
                  <a:pt x="7144" y="14015"/>
                </a:moveTo>
                <a:cubicBezTo>
                  <a:pt x="7318" y="13962"/>
                  <a:pt x="7441" y="14050"/>
                  <a:pt x="7491" y="14238"/>
                </a:cubicBezTo>
                <a:cubicBezTo>
                  <a:pt x="7531" y="14388"/>
                  <a:pt x="7423" y="14657"/>
                  <a:pt x="7243" y="14486"/>
                </a:cubicBezTo>
                <a:cubicBezTo>
                  <a:pt x="7235" y="14461"/>
                  <a:pt x="7226" y="14437"/>
                  <a:pt x="7218" y="14412"/>
                </a:cubicBezTo>
                <a:cubicBezTo>
                  <a:pt x="7336" y="14387"/>
                  <a:pt x="7489" y="14530"/>
                  <a:pt x="7565" y="14436"/>
                </a:cubicBezTo>
                <a:cubicBezTo>
                  <a:pt x="7573" y="14403"/>
                  <a:pt x="7582" y="14370"/>
                  <a:pt x="7590" y="14337"/>
                </a:cubicBezTo>
              </a:path>
              <a:path w="1241" h="1068">
                <a:moveTo>
                  <a:pt x="7491" y="13717"/>
                </a:moveTo>
                <a:cubicBezTo>
                  <a:pt x="7482" y="13864"/>
                  <a:pt x="7467" y="13861"/>
                  <a:pt x="7590" y="13940"/>
                </a:cubicBezTo>
                <a:cubicBezTo>
                  <a:pt x="7627" y="13818"/>
                  <a:pt x="7647" y="13780"/>
                  <a:pt x="7516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08960" y="5241960"/>
            <a:ext cx="749160" cy="330120"/>
          </a:xfrm>
          <a:custGeom>
            <a:avLst/>
            <a:gdLst/>
            <a:ahLst/>
            <a:rect l="l" t="t" r="r" b="b"/>
            <a:pathLst>
              <a:path w="2084" h="919">
                <a:moveTo>
                  <a:pt x="21134" y="14734"/>
                </a:moveTo>
                <a:cubicBezTo>
                  <a:pt x="21134" y="14577"/>
                  <a:pt x="21134" y="14999"/>
                  <a:pt x="21134" y="15156"/>
                </a:cubicBezTo>
                <a:cubicBezTo>
                  <a:pt x="21134" y="15305"/>
                  <a:pt x="21057" y="15523"/>
                  <a:pt x="21183" y="15354"/>
                </a:cubicBezTo>
              </a:path>
              <a:path w="2084" h="919">
                <a:moveTo>
                  <a:pt x="21580" y="14709"/>
                </a:moveTo>
                <a:cubicBezTo>
                  <a:pt x="21872" y="14801"/>
                  <a:pt x="22131" y="15005"/>
                  <a:pt x="21779" y="15304"/>
                </a:cubicBezTo>
                <a:cubicBezTo>
                  <a:pt x="21624" y="15371"/>
                  <a:pt x="21587" y="15400"/>
                  <a:pt x="21481" y="15354"/>
                </a:cubicBezTo>
                <a:cubicBezTo>
                  <a:pt x="21576" y="15181"/>
                  <a:pt x="21750" y="15178"/>
                  <a:pt x="21927" y="15280"/>
                </a:cubicBezTo>
                <a:cubicBezTo>
                  <a:pt x="21985" y="15338"/>
                  <a:pt x="21994" y="15346"/>
                  <a:pt x="22027" y="15379"/>
                </a:cubicBezTo>
              </a:path>
              <a:path w="2084" h="919">
                <a:moveTo>
                  <a:pt x="22250" y="14709"/>
                </a:moveTo>
                <a:cubicBezTo>
                  <a:pt x="22431" y="14601"/>
                  <a:pt x="22555" y="14717"/>
                  <a:pt x="22597" y="14932"/>
                </a:cubicBezTo>
                <a:cubicBezTo>
                  <a:pt x="22660" y="15256"/>
                  <a:pt x="22458" y="15384"/>
                  <a:pt x="22200" y="15478"/>
                </a:cubicBezTo>
                <a:cubicBezTo>
                  <a:pt x="22226" y="15294"/>
                  <a:pt x="22366" y="15190"/>
                  <a:pt x="22572" y="15304"/>
                </a:cubicBezTo>
                <a:cubicBezTo>
                  <a:pt x="22711" y="15381"/>
                  <a:pt x="22618" y="15418"/>
                  <a:pt x="22771" y="15404"/>
                </a:cubicBezTo>
              </a:path>
              <a:path w="2084" h="919">
                <a:moveTo>
                  <a:pt x="23118" y="14560"/>
                </a:moveTo>
                <a:cubicBezTo>
                  <a:pt x="23024" y="14683"/>
                  <a:pt x="23015" y="14668"/>
                  <a:pt x="23068" y="14808"/>
                </a:cubicBezTo>
                <a:cubicBezTo>
                  <a:pt x="23249" y="14719"/>
                  <a:pt x="23270" y="14635"/>
                  <a:pt x="23068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14840" y="4911840"/>
            <a:ext cx="411120" cy="312480"/>
          </a:xfrm>
          <a:custGeom>
            <a:avLst/>
            <a:gdLst/>
            <a:ahLst/>
            <a:rect l="l" t="t" r="r" b="b"/>
            <a:pathLst>
              <a:path w="1142" h="869">
                <a:moveTo>
                  <a:pt x="10691" y="13841"/>
                </a:moveTo>
                <a:cubicBezTo>
                  <a:pt x="10593" y="13841"/>
                  <a:pt x="10508" y="13878"/>
                  <a:pt x="10418" y="13915"/>
                </a:cubicBezTo>
                <a:cubicBezTo>
                  <a:pt x="10321" y="13955"/>
                  <a:pt x="10382" y="14032"/>
                  <a:pt x="10393" y="14114"/>
                </a:cubicBezTo>
                <a:cubicBezTo>
                  <a:pt x="10393" y="14130"/>
                  <a:pt x="10393" y="14147"/>
                  <a:pt x="10393" y="14163"/>
                </a:cubicBezTo>
                <a:cubicBezTo>
                  <a:pt x="10491" y="14140"/>
                  <a:pt x="10542" y="14038"/>
                  <a:pt x="10666" y="14114"/>
                </a:cubicBezTo>
                <a:cubicBezTo>
                  <a:pt x="10881" y="14247"/>
                  <a:pt x="10657" y="14499"/>
                  <a:pt x="10492" y="14511"/>
                </a:cubicBezTo>
                <a:cubicBezTo>
                  <a:pt x="10295" y="14525"/>
                  <a:pt x="10351" y="14394"/>
                  <a:pt x="10368" y="14288"/>
                </a:cubicBezTo>
              </a:path>
              <a:path w="1142" h="869">
                <a:moveTo>
                  <a:pt x="10988" y="13791"/>
                </a:moveTo>
                <a:cubicBezTo>
                  <a:pt x="10909" y="13871"/>
                  <a:pt x="10902" y="13891"/>
                  <a:pt x="10840" y="13915"/>
                </a:cubicBezTo>
                <a:cubicBezTo>
                  <a:pt x="10897" y="13980"/>
                  <a:pt x="11153" y="14097"/>
                  <a:pt x="11137" y="14213"/>
                </a:cubicBezTo>
                <a:cubicBezTo>
                  <a:pt x="11062" y="14313"/>
                  <a:pt x="11037" y="14346"/>
                  <a:pt x="10939" y="14337"/>
                </a:cubicBezTo>
                <a:cubicBezTo>
                  <a:pt x="10960" y="14174"/>
                  <a:pt x="11205" y="14007"/>
                  <a:pt x="11088" y="13891"/>
                </a:cubicBezTo>
                <a:cubicBezTo>
                  <a:pt x="11046" y="13891"/>
                  <a:pt x="11038" y="13891"/>
                  <a:pt x="11013" y="13891"/>
                </a:cubicBezTo>
              </a:path>
              <a:path w="1142" h="869">
                <a:moveTo>
                  <a:pt x="11336" y="13643"/>
                </a:moveTo>
                <a:cubicBezTo>
                  <a:pt x="11336" y="13709"/>
                  <a:pt x="11336" y="13742"/>
                  <a:pt x="11336" y="13791"/>
                </a:cubicBezTo>
                <a:cubicBezTo>
                  <a:pt x="11382" y="13784"/>
                  <a:pt x="11536" y="13732"/>
                  <a:pt x="11435" y="13667"/>
                </a:cubicBezTo>
                <a:cubicBezTo>
                  <a:pt x="11410" y="13659"/>
                  <a:pt x="11386" y="13651"/>
                  <a:pt x="11361" y="136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43880" y="5857920"/>
            <a:ext cx="615960" cy="339840"/>
          </a:xfrm>
          <a:custGeom>
            <a:avLst/>
            <a:gdLst/>
            <a:ahLst/>
            <a:rect l="l" t="t" r="r" b="b"/>
            <a:pathLst>
              <a:path w="1712" h="943">
                <a:moveTo>
                  <a:pt x="21878" y="16570"/>
                </a:moveTo>
                <a:cubicBezTo>
                  <a:pt x="21970" y="16570"/>
                  <a:pt x="21746" y="16588"/>
                  <a:pt x="21654" y="16594"/>
                </a:cubicBezTo>
                <a:cubicBezTo>
                  <a:pt x="21523" y="16602"/>
                  <a:pt x="21492" y="16564"/>
                  <a:pt x="21431" y="16694"/>
                </a:cubicBezTo>
                <a:cubicBezTo>
                  <a:pt x="21420" y="16717"/>
                  <a:pt x="21413" y="16742"/>
                  <a:pt x="21406" y="16768"/>
                </a:cubicBezTo>
                <a:cubicBezTo>
                  <a:pt x="21516" y="16815"/>
                  <a:pt x="21663" y="16759"/>
                  <a:pt x="21779" y="16818"/>
                </a:cubicBezTo>
                <a:cubicBezTo>
                  <a:pt x="21987" y="16925"/>
                  <a:pt x="21840" y="17146"/>
                  <a:pt x="21679" y="17190"/>
                </a:cubicBezTo>
                <a:cubicBezTo>
                  <a:pt x="21466" y="17249"/>
                  <a:pt x="21276" y="17219"/>
                  <a:pt x="21233" y="17016"/>
                </a:cubicBezTo>
              </a:path>
              <a:path w="1712" h="943">
                <a:moveTo>
                  <a:pt x="22374" y="16495"/>
                </a:moveTo>
                <a:cubicBezTo>
                  <a:pt x="22214" y="16518"/>
                  <a:pt x="22155" y="16542"/>
                  <a:pt x="22027" y="16644"/>
                </a:cubicBezTo>
                <a:cubicBezTo>
                  <a:pt x="22083" y="16827"/>
                  <a:pt x="22315" y="16883"/>
                  <a:pt x="22374" y="17066"/>
                </a:cubicBezTo>
                <a:cubicBezTo>
                  <a:pt x="22435" y="17253"/>
                  <a:pt x="22161" y="17193"/>
                  <a:pt x="22101" y="17190"/>
                </a:cubicBezTo>
                <a:cubicBezTo>
                  <a:pt x="22113" y="16957"/>
                  <a:pt x="22254" y="16850"/>
                  <a:pt x="22374" y="16644"/>
                </a:cubicBezTo>
                <a:cubicBezTo>
                  <a:pt x="22406" y="16590"/>
                  <a:pt x="22293" y="16596"/>
                  <a:pt x="22275" y="16594"/>
                </a:cubicBezTo>
              </a:path>
              <a:path w="1712" h="943">
                <a:moveTo>
                  <a:pt x="22895" y="16272"/>
                </a:moveTo>
                <a:cubicBezTo>
                  <a:pt x="22773" y="16272"/>
                  <a:pt x="22787" y="16342"/>
                  <a:pt x="22771" y="16446"/>
                </a:cubicBezTo>
                <a:cubicBezTo>
                  <a:pt x="22838" y="16464"/>
                  <a:pt x="23030" y="16417"/>
                  <a:pt x="22920" y="16297"/>
                </a:cubicBezTo>
                <a:cubicBezTo>
                  <a:pt x="22861" y="16297"/>
                  <a:pt x="22835" y="16294"/>
                  <a:pt x="22796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Angle Practice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4:39:51Z</dcterms:created>
  <dc:creator>ccps</dc:creator>
  <dc:description/>
  <dc:language>en-US</dc:language>
  <cp:lastModifiedBy>deanne elizabeth mcgrath</cp:lastModifiedBy>
  <dcterms:modified xsi:type="dcterms:W3CDTF">2011-06-13T17:13:48Z</dcterms:modified>
  <cp:revision>8</cp:revision>
  <dc:subject/>
  <dc:title>Slide 1</dc:title>
</cp:coreProperties>
</file>